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7245-1683-487A-8B16-3AED0FC04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A596-FB0E-4793-8A03-CD55F120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8E68-E0E1-4C88-A017-FA554D1D9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B4C6-CB8F-4FF6-8D32-964C32595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7E9F-C2B0-44EA-8BEF-4DEA2057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8ADF-2D08-4985-94C0-69F398D6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F563-BA02-43A3-9FF4-E22C1EF3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9562-573A-4B69-9057-68824470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D1F5-B958-464B-8BD9-36B10BC3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A090-58A6-4F70-ACCC-D8273903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36F1-BFD6-4404-A2E5-CE75DB80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E936-F68C-4C38-830C-B25533B4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F378-7B32-4972-9601-F4789DA18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jednodušování modelu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80880" y="990720"/>
          <a:ext cx="8458200" cy="5541840"/>
        </p:xfrm>
        <a:graphic>
          <a:graphicData uri="http://schemas.openxmlformats.org/drawingml/2006/table">
            <a:tbl>
              <a:tblPr/>
              <a:tblGrid>
                <a:gridCol w="916200"/>
                <a:gridCol w="2590560"/>
                <a:gridCol w="4951440"/>
              </a:tblGrid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vět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tuj maximální mod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tuj všechny faktory, interakce a kovariáty, které lze. Zkontroluj reziduály. Zkontroluj overdispersion (Poissonovo n. binomické rozložení chyb, příp. resca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čni se zjednodušování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hlédni si parametry pomocí </a:t>
                      </a: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p e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Odstraň člen vysvětlující nejméně deviance pomocí </a:t>
                      </a: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t -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Začni s interakcemi nejvyšší třídy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kud zjednodušení způsobí nevýznamnou změnu devi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ch parametr mimo model. Prohlédni si parametry a opět odstraň člen vysvětlující nejméně devian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kud zjednodušení způsobí významnou změnu devi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rať parametr do modelu pomocí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t+.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de o statisticky průkazný čl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kračuj v odstraňování parametr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uj kroky 3 a 4 tak dlouho, dokud model neobsahuje jen průkazné členy. Výsledný model je minimální adekvátn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ůst housenek (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90480" y="2274840"/>
          <a:ext cx="7807320" cy="40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2274840"/>
                    <a:ext cx="7807320" cy="40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nalýza kovari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var délka larválního insta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ktor hormon se třemi úrovněmi (kontrola, hormon A, hormon B), 15 opakování každé úrovně (n=4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ovariát počáteční váha housen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Zarovnání (offse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var produkce semen (suchá hmotnost, 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světlující proměnná basální průměr rostlin na počátku sezóny (x, c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, že nám dalo mnoho práce zkoumání faktoru, který se ukázal jako nevýznamný, nás neopravňuje k tomu, abychom ho uchovávali v mode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publikujte ANOVA tabulky se směsí významných a nevýznamných faktorů pro neortogonální dizaj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oporuče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Řekněte, zda jsou vaše data ortogonál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ezentujte M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veďte seznam NS faktorů a změny v devianci, které způsobi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ví-li se nevýznamný faktor jako důležitý (je např. blízko významnosti), opakujte experiment s větším vzork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učování (agrega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ojování úrovní faktorů, které jsou významné, ale neliší se průkazně jedna od druh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apř. ANOVA: „nízká“ a „střední“ úroveň faktoru se od sebe průkazně neliší, ale liší se průkazně od úrovně „vysoké“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arovnán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offse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jednodušování číselných hodnot parametrů za předpokladu, že zjednodušením nevznikne statistický průkazný růst devi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apř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ůsečík regrese blízký nule nahrazen nul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stování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 priorních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oretických očekávaní: např. samoředění v rostlinných populacích s koeficientem –3/2 nebo isometrický růs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dnoduchá regre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 nutný nenulový průsečík? $fit-1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sou data nelineární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$ca x2=x*x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$fit+x2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nohonásobná regre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terý podsoubor vysvětlujících proměnných je MA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sou to proměnné, které způsobí signifikantní růst deviance, jsou-li odstraněny z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ximálního mode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orelované vysvětlující proměnné (např. minimální a maximální denní teplota) 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ackward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. forward selection and eli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nohonásobná regrese: příkl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var váha hlodav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světlující proměnné: x1 déšť, x2 abundance predátorů, x3 úkryt, x4 produkce sem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Mnohonásobná regrese: ANODEV se všemi deviances odstraňovanými z maximálního model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85800" y="1981080"/>
          <a:ext cx="7772400" cy="43592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větlující proměnn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chyl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éš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.7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=13.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dátoř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42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Úkry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4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ukce se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3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Mnohonásobná regrese: ANODEV s deviances odstraňovanými krokově z maximálního model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85800" y="1981080"/>
          <a:ext cx="7772400" cy="43592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větlující proměnn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chyl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éš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8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=13.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dátoř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Úkry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ukce se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NO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teré (pokud vůbec nějaké) interakce je třeba nechat v model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ze rozumně agregovat úrovně faktorů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ze nahradit pořadové urovně faktorů regresní analýz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6T20:18:46Z</dcterms:created>
  <dc:creator>Vojtěch Jarošík</dc:creator>
  <dc:description/>
  <dc:language>en-US</dc:language>
  <cp:lastModifiedBy>Vojtěch Jarošík</cp:lastModifiedBy>
  <dcterms:modified xsi:type="dcterms:W3CDTF">2002-10-08T20:57:09Z</dcterms:modified>
  <cp:revision>10</cp:revision>
  <dc:subject/>
  <dc:title>Zjednodušování modelu </dc:title>
</cp:coreProperties>
</file>