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C54-DEE6-4A0A-BE2A-48B634C1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A2F-11BC-4A60-A502-ABFD7B60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953-8D40-4F8C-81B6-25472CD5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8CE-9035-414A-B3D8-6C4D0EE6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BCF-D670-4DCD-83A4-3D518CA6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0D8-5684-479F-9470-08F8E96D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FFB-1362-40DE-BFF2-5CF261DF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8D0-B36F-4E91-9FB1-EFA41056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02AB-D2BA-4B69-B724-A232FA73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8C4-7BBE-4028-A583-12AB798C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F26-1946-4A3B-AAE7-4BAFD74E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DBA2-FDB7-4038-B325-10379322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223B-9118-4DAE-9190-8FEDE486B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delování v GLI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ílem je stanovit minimální adekvátní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ýza je explorač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á žádná fixní pravid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ologický slovní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981080"/>
          <a:ext cx="8051760" cy="4618080"/>
        </p:xfrm>
        <a:graphic>
          <a:graphicData uri="http://schemas.openxmlformats.org/drawingml/2006/table">
            <a:tbl>
              <a:tblPr/>
              <a:tblGrid>
                <a:gridCol w="1905120"/>
                <a:gridCol w="61466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ový model (null mo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tován celkový průměr (grand mean); odchylka (deviance) = S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plný model (full mo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ová odchylka; parametr pro každé pozoro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imální model (maximal mo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ahuje všechny faktory, interakce a kovariá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časný model (current mo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 po posledním příkazu fit. Zpravidla jednodušší než maximální model, ale složitější než minimální adekvátní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imální adekvátní model (minimal adequate mo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 se všemi parametry statisticky průkazně odlišnými od nuly a se všemi parametry statisticky odlišnými mezi sebou. Zpravidla cíl modelování v GLIM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nechávací testy (deletion tes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 graduální (step-wise) proces, kterým se z maximálního modelu pomocí zjednodušování (model simplification) získává minimální adekvátní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ýznamnost vynechávacích testů je testována F-testy nebo chí-kvadrá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émové vektory a skalá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905120"/>
          <a:ext cx="8335800" cy="4325760"/>
        </p:xfrm>
        <a:graphic>
          <a:graphicData uri="http://schemas.openxmlformats.org/drawingml/2006/table">
            <a:tbl>
              <a:tblPr/>
              <a:tblGrid>
                <a:gridCol w="1290600"/>
                <a:gridCol w="1967040"/>
                <a:gridCol w="5078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zn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žit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k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f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tované hodno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nášení do grafů s pozorovanými hodnotami, počítání reziduál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živatelem definované vektory  pro $ca$, omezení vynášených hodnot v $plot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lá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d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pně vol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-kvadrá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ování „overdispersion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le par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zptyl chyb pro normální a gamma rozložení, úprava „overdispersion“ s Poissonovo a binárním rozložení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ování hypoté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lé (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30) a velké vzor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stování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esty nebo vynechávacími testy (deletion te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12:12:00Z</dcterms:created>
  <dc:creator>Vojtěch Jarošík</dc:creator>
  <dc:description/>
  <dc:language>en-US</dc:language>
  <cp:lastModifiedBy>Vojtěch Jarošík</cp:lastModifiedBy>
  <dcterms:modified xsi:type="dcterms:W3CDTF">2002-04-22T12:41:54Z</dcterms:modified>
  <cp:revision>4</cp:revision>
  <dc:subject/>
  <dc:title>Modelování v GLIMu</dc:title>
</cp:coreProperties>
</file>