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B029-F788-4446-97E4-C67E8B116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666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4737-D74C-4573-B4C2-614002B7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666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41666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1FB6-2304-4B50-8490-BF768F5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20574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20574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666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41666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41666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323C-7462-485F-9DFE-B53EDB4EA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CBCA-A6AA-4493-B654-73ADD082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98BC-94DB-4BF3-8932-01021B4C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20574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BD75-5590-4EC7-9462-F2DB587E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5355-4B0F-4948-9335-6F4FD564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4CA8-B8DD-420D-A66C-5F468A94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20574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666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618B-AB03-40C7-AAE4-101FDFA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41666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8E40-6111-447E-AAB5-6B4E6FA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20574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66640"/>
            <a:ext cx="8153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1CCE-4DBC-4D23-B38A-6380289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E685-BB2E-46AB-9E2C-82C49459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819520" y="4876920"/>
          <a:ext cx="3124080" cy="1981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4876920"/>
                    <a:ext cx="3124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Metoda nejmenších čtverc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914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2004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6095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908640" y="326448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7240" y="6461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914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36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600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5960" y="2881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596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180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5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480" y="1447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54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5480" y="762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1219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18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295280" y="4114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19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1905120" y="4495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20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2438280" y="1905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21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2590920" y="4876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122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3352680" y="14479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23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335268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24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4191120" y="22860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25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41911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26" name="BD10300_" descr="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5029200" y="2133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27" name="BD10300_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50292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28" name="BD10300_" descr="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5867280" y="2743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29" name="BD10300_" descr="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6553080" y="2514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30" name="BD10300_" descr="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7315200" y="2514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31" name="BD10300_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73152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32" name="BD10300_" descr="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655308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33" name="BD10300_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5791320" y="5638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915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6095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62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4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4032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D10300_" descr=""/>
          <p:cNvPicPr/>
          <p:nvPr/>
        </p:nvPicPr>
        <p:blipFill>
          <a:blip r:embed="rId18">
            <a:lum bright="18000"/>
          </a:blip>
          <a:stretch/>
        </p:blipFill>
        <p:spPr>
          <a:xfrm>
            <a:off x="1828800" y="15238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38280" y="320040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62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64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4032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05740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90720" y="190512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05320" y="1600200"/>
                <a:ext cx="106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0" y="60948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295280" y="4191120"/>
            <a:ext cx="60199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6002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198108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91120" y="205704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29200" y="205740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205704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553080" y="20574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315200" y="20574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mka nejlepší sh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6095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832320" y="478800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7240" y="6461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1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596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5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54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4114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77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5120" y="4495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78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590920" y="4876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179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35268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80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1911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81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0292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182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3152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3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655308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4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5791320" y="5638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39152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6095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6095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4032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4191120"/>
            <a:ext cx="60199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360" y="685800"/>
            <a:ext cx="847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by měla být umístě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ký by měla mít skl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ístění: přímka nejlepší shody by měla procházet průměrnými     hodnotami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klon: přímka by měla být otáčena kolem bod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ž do dosažení sklonu nejlepší sho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114800" y="6172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90720" y="480060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mka nejlepší shody: formaliz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6095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832320" y="478800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7240" y="6461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1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596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5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54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4114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12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5120" y="4495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213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590920" y="4876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214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35268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15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1911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216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0292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17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3152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18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655308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19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5791320" y="5638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39152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6095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6095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164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032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191120"/>
            <a:ext cx="60199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14800" y="6172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90720" y="480060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52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505320" y="4419720"/>
                <a:ext cx="1066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 flipV="1">
            <a:off x="1905120" y="4343040"/>
            <a:ext cx="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90920" y="449532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191120" y="495252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9132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541008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548640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762120"/>
                <a:ext cx="1447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975960" y="39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19520" y="4572000"/>
            <a:ext cx="1512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04760" y="458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85440" y="1143000"/>
                <a:ext cx="16002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836800" y="533520"/>
                <a:ext cx="809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1752480"/>
                <a:ext cx="1828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2514600"/>
                <a:ext cx="2362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09480" y="3048120"/>
                <a:ext cx="3581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20040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657600" y="281952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876920" y="4038480"/>
                <a:ext cx="14475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 flipV="1">
            <a:off x="4648320" y="4343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7840" y="762120"/>
            <a:ext cx="504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on nejlepší shod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získá deriva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 pro 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klon nejlepší shody: výpoč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095880" y="685800"/>
                <a:ext cx="3048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36440" y="700200"/>
            <a:ext cx="8999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edáme funkci, která minimalizuje hodnot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rov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rivujeme rovnic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ant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áme před závorku a čísla v závorce násobíme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mujeme každý člen zvlášť, nalézáme minimum funkce tím, že pokládáme deriv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ovnou nule a zbavujeme se konstant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tím, že obě strany rovnice dělí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vě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vnici nemůžeme přímo řešit, protože obsahuje dvě neznámé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Hodnot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 však již definovali rovni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m z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přeps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an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sobením členů v záv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ě členy obsahujíc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áme na stejnou stranu rovn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had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áme vydělením obou stran rovn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352680" y="1066680"/>
                <a:ext cx="2292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781680" y="1547640"/>
                <a:ext cx="23623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219320" y="2666880"/>
                <a:ext cx="1981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352680" y="3200400"/>
                <a:ext cx="1295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800600" y="3505320"/>
                <a:ext cx="23702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e>
                    </m:nary>
                    <m:r>
                      <m:t xml:space="preserve">,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676520" y="3886200"/>
                <a:ext cx="304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276720" y="4495680"/>
                <a:ext cx="3045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114800" y="4267080"/>
                <a:ext cx="32767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248520" y="48006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b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257800" y="518148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: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28800" y="5630760"/>
                <a:ext cx="190512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mka nejlepší shody: vý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6095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-680040" y="173988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7240" y="6461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1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596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5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54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4114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85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5120" y="4495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286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590920" y="4876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287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35268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88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1911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289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0292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290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3152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91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655308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92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5791320" y="5638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39152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6095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6095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64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4032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4191120"/>
            <a:ext cx="60199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114800" y="6172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90720" y="480060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352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505320" y="4419720"/>
                <a:ext cx="1066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 flipV="1">
            <a:off x="1905120" y="4343040"/>
            <a:ext cx="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590920" y="449532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495252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132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548640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5960" y="39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19520" y="4572000"/>
            <a:ext cx="1512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04760" y="458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562720" y="3505320"/>
                <a:ext cx="358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876920" y="4038480"/>
                <a:ext cx="14475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flipV="1">
            <a:off x="4648320" y="4343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914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2004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914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36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1600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5960" y="2881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180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5480" y="1447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5480" y="762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BD10300_" descr="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1295280" y="1219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31" name="BD10300_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2438280" y="1905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32" name="BD10300_" descr="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3352680" y="14479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33" name="BD10300_" descr="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4191120" y="22860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334" name="BD10300_" descr="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5029200" y="2133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35" name="BD10300_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5867280" y="2743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36" name="BD10300_" descr="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6553080" y="2514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37" name="BD10300_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7315200" y="25146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3915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D10300_" descr=""/>
          <p:cNvPicPr/>
          <p:nvPr/>
        </p:nvPicPr>
        <p:blipFill>
          <a:blip r:embed="rId18">
            <a:lum bright="18000"/>
          </a:blip>
          <a:stretch/>
        </p:blipFill>
        <p:spPr>
          <a:xfrm>
            <a:off x="1828800" y="15238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438280" y="320040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62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64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4032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205740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90720" y="190512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828800" y="16002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98108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152388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191120" y="205704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029200" y="205740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867280" y="205704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553080" y="20574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315200" y="205740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505320" y="1600200"/>
                <a:ext cx="106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0" y="60948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676520" y="53352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Metoda nejmenších čtverců: tři důležité vz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895480" y="1600200"/>
                <a:ext cx="3048120" cy="26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371160" y="4191120"/>
            <a:ext cx="848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T měří celkový rozptyl hodno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em průměr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X měří stejným způsobem rozptyl hodno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em průměr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ří rozsah hodno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egresního gra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XY měř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orelac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hodno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SXY je negativní, poku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esá s rostoucí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dnot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x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pozitivní, poku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e 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je nul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jsou korelov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estování význam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st je založen n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tandardních chybác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aramet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chyby závisejí n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ozptylu chy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n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tupních vo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ndardní chyba regresního sklo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še důvěra v odhadnutou hodnotu regresního sklonu bude velká, kdy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udeme mít velký počet opakování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udeme mít velký rozsah hodno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SSX bude veliká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ptyl chyb bude mal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tandardní chyba regresního skl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3809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6095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680040" y="173988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67240" y="6461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38098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1800" y="5791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5960" y="5167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5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5480" y="365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4114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80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5120" y="4495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381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590920" y="4876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382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35268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83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1911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384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0292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385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3152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86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655308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87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5791320" y="5638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70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6095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6095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1644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40320" y="6095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191120"/>
            <a:ext cx="60199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114800" y="617220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990720" y="480060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3352680" y="449568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505320" y="4419720"/>
                <a:ext cx="1066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 flipV="1">
            <a:off x="1905120" y="4343040"/>
            <a:ext cx="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590920" y="4495320"/>
            <a:ext cx="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191120" y="495252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791320" y="5334120"/>
            <a:ext cx="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541008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15200" y="5486400"/>
            <a:ext cx="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75960" y="39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368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91440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200400"/>
            <a:ext cx="6096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9144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3623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16002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75960" y="2881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91800" y="2209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5480" y="1447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15480" y="762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BD10300_" descr="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1295280" y="1219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421" name="BD10300_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2438280" y="1905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422" name="BD10300_" descr="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3352680" y="14479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423" name="BD10300_" descr="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4191120" y="22860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424" name="BD10300_" descr="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5029200" y="2133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425" name="BD10300_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5867280" y="2743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26" name="BD10300_" descr="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6553080" y="2514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427" name="BD10300_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7315200" y="25146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391520" y="312408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312408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0920" y="312408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312408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D10300_" descr=""/>
          <p:cNvPicPr/>
          <p:nvPr/>
        </p:nvPicPr>
        <p:blipFill>
          <a:blip r:embed="rId18">
            <a:lum bright="18000"/>
          </a:blip>
          <a:stretch/>
        </p:blipFill>
        <p:spPr>
          <a:xfrm>
            <a:off x="1828800" y="15238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438280" y="320040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62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644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4032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2057400"/>
            <a:ext cx="6096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990720" y="1905120"/>
                <a:ext cx="263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828800" y="1600200"/>
            <a:ext cx="144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1981080"/>
            <a:ext cx="180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1523880"/>
            <a:ext cx="180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191120" y="2057040"/>
            <a:ext cx="144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553080" y="2057400"/>
            <a:ext cx="180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7315200" y="2057400"/>
            <a:ext cx="144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505320" y="1600200"/>
                <a:ext cx="106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5029200" y="2057400"/>
            <a:ext cx="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7280" y="205740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743120" y="609480"/>
                <a:ext cx="5124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Jaká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lativní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dnot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yb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klon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stick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ůkazně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liši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ly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7393680" y="838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T=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46720" y="3490920"/>
            <a:ext cx="736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Jaká je hodnota, když se sklon statisticky průkazně liší od nuly? (Konkrétně, je průkaz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negativní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45960" y="38862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92200" y="4253040"/>
            <a:ext cx="39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V hraničním případě, kdy budo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všechny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ležet na přímce, b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29760" y="468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E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tandardní chyba regresního sklonu: regresní suma čtverc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 = SST – 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ude veliká, jestliže fitovaná přímka vysvětlí velkou část variability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ude malá, pokud lineární trend bude málo pat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 bude rovn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pokud bude shoda regresní přímky s fitovanými daty dokonalá, protož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ude nulov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ude nulová, jestliž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ude nezávislé n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17524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800" spc="-1" strike="noStrike">
                <a:solidFill>
                  <a:srgbClr val="000000"/>
                </a:solidFill>
                <a:latin typeface="Times New Roman"/>
              </a:rPr>
              <a:t>y = a + b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666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52578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3316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308916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měn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7440" y="5299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8960" y="491796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větlují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měn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124080"/>
            <a:ext cx="426744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7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952880" y="4648320"/>
            <a:ext cx="1519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91120" y="476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ýpočet regresní sumy čtverc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 rot="10800000">
                <a:off x="2895480" y="1675800"/>
                <a:ext cx="3353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222840" y="2819520"/>
            <a:ext cx="86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výpočet je nepraktický; lépe je nejprve spočíta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R = b.S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viz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kal a Rohlf, Biometry, 1994, 3. vydání, s. 457-4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ak SST podle vztah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SE = SST - S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OVA tabulka lineární 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609480" y="2057400"/>
          <a:ext cx="8305920" cy="4479840"/>
        </p:xfrm>
        <a:graphic>
          <a:graphicData uri="http://schemas.openxmlformats.org/drawingml/2006/table">
            <a:tbl>
              <a:tblPr/>
              <a:tblGrid>
                <a:gridCol w="1359000"/>
                <a:gridCol w="1359000"/>
                <a:gridCol w="1359000"/>
                <a:gridCol w="1358640"/>
                <a:gridCol w="1359000"/>
                <a:gridCol w="1511280"/>
              </a:tblGrid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dro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-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y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-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6400800" y="3124080"/>
                <a:ext cx="703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724280" y="411480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ndardní chyba regresního sklonu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33520" y="1981080"/>
                <a:ext cx="1752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30400" y="3429000"/>
            <a:ext cx="93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chyba roste s rostoucí hodnotou chybového rozpty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chyba klesá, jestliže roste rozsah hodnot, přes kte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a měřena hodnot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; to dává dobrý intuitivní smysl – čím vět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sah hodno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yl pokryt, tím důvěryhodnější bude odhad sklo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1160" y="2057400"/>
            <a:ext cx="57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viz Sokal a Rohlf, Biometry, 199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vyd., s. 457-4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val spolehlivosti (konfidenční interval CI) regresního sklo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3680" y="2590920"/>
            <a:ext cx="196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cs-CZ" sz="2400" spc="-1" strike="noStrike" baseline="-10000">
                <a:solidFill>
                  <a:srgbClr val="000000"/>
                </a:solidFill>
                <a:latin typeface="Times New Roman"/>
              </a:rPr>
              <a:t>tabulk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2438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viz Sokal a Rohlf, Biometry, 1994, 3. vyd., s. 127-1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0560" y="3470400"/>
            <a:ext cx="82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normální rozložení to je hodnota z tabulek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stu, pro dvo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nou hypotézu na 5% hladině významnosti to je </a:t>
            </a:r>
            <a:r>
              <a:rPr b="0" i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0,0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ndardní chyba průsečíku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57200" y="1371600"/>
                <a:ext cx="17524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SS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2724120" y="1336680"/>
            <a:ext cx="62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Sokal a Rohlf, Biometry, 1994, 3. vyd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. 457-4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230040" y="2514600"/>
            <a:ext cx="928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chyb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á tedy stejné závislosti jako standardní ch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le navíc závisí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tverci vzdálenosti mezi mezi průměrnou hodnoto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hodnot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du, pro kterou je predikce dělána; důvěra v predikci klesá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dáleností od průměrné hodnoty,tj.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chyba průsečíku klesá s rostoucím počtem bodů na graf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s hodnoto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257800" y="396252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val spolehlivosti (konfidenční interval CI) průsečí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3680" y="2590920"/>
            <a:ext cx="196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cs-CZ" sz="2400" spc="-1" strike="noStrike" baseline="-10000">
                <a:solidFill>
                  <a:srgbClr val="000000"/>
                </a:solidFill>
                <a:latin typeface="Times New Roman"/>
              </a:rPr>
              <a:t>tabulk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24382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viz Sokal a Rohlf, Biometry, 1994, 3. vyd., s. 127-1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0560" y="3470400"/>
            <a:ext cx="82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normální rozložení to je hodnota z tabulek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stu, pro dvo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nou hypotézu na 5% hladině významnosti to je </a:t>
            </a:r>
            <a:r>
              <a:rPr b="0" i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0,0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ndardní chyba libovolné předvídané hodnot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2209680"/>
                <a:ext cx="29419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SX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3124080" y="22096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vození Sokal a Rohlf, Biometry, 1994, 3. vyd., s. 457-4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-455400" y="2514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086600" y="91440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125280" y="3809880"/>
            <a:ext cx="903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chyba průsečíku je tedy jen speciálním případem standard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yby libovolné předvídané hodnoty pro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upeň roztroušenosti (scat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838080"/>
            <a:ext cx="87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ta mohou mít stejný sklon přímky nejlepší shody (PNS), ale velmi různý stupeň roztroušenosti   kolem této přím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dle sklonu PNS je potřeba definovat, jakou část variability tato přímka vysvětluj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1981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876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4876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553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6553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0060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60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36120" y="6324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594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57200" y="220968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57200" y="502920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800600" y="220968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28954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5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62120" y="28954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6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990720" y="26668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07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990720" y="28195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08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219320" y="2590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09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1447920" y="25146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10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1676520" y="23623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11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1752480" y="2209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2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1981080" y="22860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3" name="BD10300_" descr="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4876920" y="2743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14" name="BD10300_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4952880" y="3124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15" name="BD10300_" descr="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5486400" y="3048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16" name="BD10300_" descr="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5334120" y="22096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17" name="BD10300_" descr="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6248520" y="19051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18" name="BD10300_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5715000" y="2362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19" name="BD10300_" descr="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5715000" y="2819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0" name="BD10300_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6248520" y="25146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21" name="BD10300_" descr=""/>
          <p:cNvPicPr/>
          <p:nvPr/>
        </p:nvPicPr>
        <p:blipFill>
          <a:blip r:embed="rId18">
            <a:lum bright="18000"/>
          </a:blip>
          <a:stretch/>
        </p:blipFill>
        <p:spPr>
          <a:xfrm>
            <a:off x="6019920" y="2743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22" name="BD10300_" descr=""/>
          <p:cNvPicPr/>
          <p:nvPr/>
        </p:nvPicPr>
        <p:blipFill>
          <a:blip r:embed="rId19">
            <a:lum bright="18000"/>
          </a:blip>
          <a:stretch/>
        </p:blipFill>
        <p:spPr>
          <a:xfrm>
            <a:off x="457200" y="58672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23" name="BD10300_" descr=""/>
          <p:cNvPicPr/>
          <p:nvPr/>
        </p:nvPicPr>
        <p:blipFill>
          <a:blip r:embed="rId20">
            <a:lum bright="18000"/>
          </a:blip>
          <a:stretch/>
        </p:blipFill>
        <p:spPr>
          <a:xfrm>
            <a:off x="609480" y="5791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4" name="BD10300_" descr=""/>
          <p:cNvPicPr/>
          <p:nvPr/>
        </p:nvPicPr>
        <p:blipFill>
          <a:blip r:embed="rId21">
            <a:lum bright="18000"/>
          </a:blip>
          <a:stretch/>
        </p:blipFill>
        <p:spPr>
          <a:xfrm>
            <a:off x="1981080" y="50292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25" name="BD10300_" descr=""/>
          <p:cNvPicPr/>
          <p:nvPr/>
        </p:nvPicPr>
        <p:blipFill>
          <a:blip r:embed="rId22">
            <a:lum bright="18000"/>
          </a:blip>
          <a:stretch/>
        </p:blipFill>
        <p:spPr>
          <a:xfrm>
            <a:off x="1828800" y="5105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6" name="BD10300_" descr=""/>
          <p:cNvPicPr/>
          <p:nvPr/>
        </p:nvPicPr>
        <p:blipFill>
          <a:blip r:embed="rId23">
            <a:lum bright="18000"/>
          </a:blip>
          <a:stretch/>
        </p:blipFill>
        <p:spPr>
          <a:xfrm>
            <a:off x="1676520" y="51814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27" name="BD10300_" descr=""/>
          <p:cNvPicPr/>
          <p:nvPr/>
        </p:nvPicPr>
        <p:blipFill>
          <a:blip r:embed="rId24">
            <a:lum bright="18000"/>
          </a:blip>
          <a:stretch/>
        </p:blipFill>
        <p:spPr>
          <a:xfrm>
            <a:off x="1523880" y="52578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28" name="BD10300_" descr=""/>
          <p:cNvPicPr/>
          <p:nvPr/>
        </p:nvPicPr>
        <p:blipFill>
          <a:blip r:embed="rId25">
            <a:lum bright="18000"/>
          </a:blip>
          <a:stretch/>
        </p:blipFill>
        <p:spPr>
          <a:xfrm>
            <a:off x="1371600" y="53341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29" name="BD10300_" descr=""/>
          <p:cNvPicPr/>
          <p:nvPr/>
        </p:nvPicPr>
        <p:blipFill>
          <a:blip r:embed="rId26">
            <a:lum bright="18000"/>
          </a:blip>
          <a:stretch/>
        </p:blipFill>
        <p:spPr>
          <a:xfrm>
            <a:off x="1143000" y="54864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0" name="BD10300_" descr=""/>
          <p:cNvPicPr/>
          <p:nvPr/>
        </p:nvPicPr>
        <p:blipFill>
          <a:blip r:embed="rId27">
            <a:lum bright="18000"/>
          </a:blip>
          <a:stretch/>
        </p:blipFill>
        <p:spPr>
          <a:xfrm>
            <a:off x="914400" y="5638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1" name="BD10300_" descr=""/>
          <p:cNvPicPr/>
          <p:nvPr/>
        </p:nvPicPr>
        <p:blipFill>
          <a:blip r:embed="rId28">
            <a:lum bright="18000"/>
          </a:blip>
          <a:stretch/>
        </p:blipFill>
        <p:spPr>
          <a:xfrm>
            <a:off x="5029200" y="48769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32" name="BD10300_" descr=""/>
          <p:cNvPicPr/>
          <p:nvPr/>
        </p:nvPicPr>
        <p:blipFill>
          <a:blip r:embed="rId29">
            <a:lum bright="18000"/>
          </a:blip>
          <a:stretch/>
        </p:blipFill>
        <p:spPr>
          <a:xfrm>
            <a:off x="5867280" y="60958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3" name="BD10300_" descr=""/>
          <p:cNvPicPr/>
          <p:nvPr/>
        </p:nvPicPr>
        <p:blipFill>
          <a:blip r:embed="rId30">
            <a:lum bright="18000"/>
          </a:blip>
          <a:stretch/>
        </p:blipFill>
        <p:spPr>
          <a:xfrm>
            <a:off x="6324480" y="4800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4" name="BD10300_" descr=""/>
          <p:cNvPicPr/>
          <p:nvPr/>
        </p:nvPicPr>
        <p:blipFill>
          <a:blip r:embed="rId31">
            <a:lum bright="18000"/>
          </a:blip>
          <a:stretch/>
        </p:blipFill>
        <p:spPr>
          <a:xfrm>
            <a:off x="5638680" y="5638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5" name="BD10300_" descr=""/>
          <p:cNvPicPr/>
          <p:nvPr/>
        </p:nvPicPr>
        <p:blipFill>
          <a:blip r:embed="rId32">
            <a:lum bright="18000"/>
          </a:blip>
          <a:stretch/>
        </p:blipFill>
        <p:spPr>
          <a:xfrm>
            <a:off x="640080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6" name="BD10300_" descr=""/>
          <p:cNvPicPr/>
          <p:nvPr/>
        </p:nvPicPr>
        <p:blipFill>
          <a:blip r:embed="rId33">
            <a:lum bright="18000"/>
          </a:blip>
          <a:stretch/>
        </p:blipFill>
        <p:spPr>
          <a:xfrm>
            <a:off x="5562720" y="5257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37" name="BD10300_" descr=""/>
          <p:cNvPicPr/>
          <p:nvPr/>
        </p:nvPicPr>
        <p:blipFill>
          <a:blip r:embed="rId34">
            <a:lum bright="18000"/>
          </a:blip>
          <a:stretch/>
        </p:blipFill>
        <p:spPr>
          <a:xfrm>
            <a:off x="5257800" y="5943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8" name="BD10300_" descr=""/>
          <p:cNvPicPr/>
          <p:nvPr/>
        </p:nvPicPr>
        <p:blipFill>
          <a:blip r:embed="rId35">
            <a:lum bright="18000"/>
          </a:blip>
          <a:stretch/>
        </p:blipFill>
        <p:spPr>
          <a:xfrm>
            <a:off x="5029200" y="5410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39" name="BD10300_" descr=""/>
          <p:cNvPicPr/>
          <p:nvPr/>
        </p:nvPicPr>
        <p:blipFill>
          <a:blip r:embed="rId36">
            <a:lum bright="18000"/>
          </a:blip>
          <a:stretch/>
        </p:blipFill>
        <p:spPr>
          <a:xfrm>
            <a:off x="6400800" y="59436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499840" y="194328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NS vysvětl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koro vše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ty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1337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NS vysvětluje velmi málo rozpty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8280" y="4800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NS vysvětluje všechen rozpty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10280" y="4800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NS nevysvětluje žádný rozpty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ěřítko stupně roztrouše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ělo by nabývat hodnot mezi nulou a jedn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ze ho definovat jako čá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ysvětlené modelem. Přitom víme, ž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variabilita, která nebyla vysvětlena modelem 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S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variabilita vysvětlená mode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ěřítko roztroušenosti se nazývá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oeficient determinace 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je dán jako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měr SSR a SS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276720" y="5334120"/>
                <a:ext cx="236196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upeň roztroušenosti (scat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3200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76920" y="4876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5029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2080" y="4648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594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33520" y="350532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43434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56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85800" y="4267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57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057400" y="35053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58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905120" y="35812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59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752480" y="36576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0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1600200" y="37339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61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1447920" y="38098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62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1219320" y="39625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63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990720" y="41148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64" name="BD10300_" descr="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5105520" y="32004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65" name="BD10300_" descr="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5943600" y="44197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66" name="BD10300_" descr="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6400800" y="31240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7" name="BD10300_" descr="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5715000" y="3962520"/>
            <a:ext cx="76320" cy="75960"/>
          </a:xfrm>
          <a:prstGeom prst="rect">
            <a:avLst/>
          </a:prstGeom>
          <a:ln w="0">
            <a:noFill/>
          </a:ln>
        </p:spPr>
      </p:pic>
      <p:pic>
        <p:nvPicPr>
          <p:cNvPr id="568" name="BD10300_" descr="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6477120" y="3733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69" name="BD10300_" descr=""/>
          <p:cNvPicPr/>
          <p:nvPr/>
        </p:nvPicPr>
        <p:blipFill>
          <a:blip r:embed="rId15">
            <a:lum bright="18000"/>
          </a:blip>
          <a:stretch/>
        </p:blipFill>
        <p:spPr>
          <a:xfrm>
            <a:off x="5638680" y="35812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70" name="BD10300_" descr="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5334120" y="42670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571" name="BD10300_" descr=""/>
          <p:cNvPicPr/>
          <p:nvPr/>
        </p:nvPicPr>
        <p:blipFill>
          <a:blip r:embed="rId17">
            <a:lum bright="18000"/>
          </a:blip>
          <a:stretch/>
        </p:blipFill>
        <p:spPr>
          <a:xfrm>
            <a:off x="5105520" y="37339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572" name="BD10300_" descr=""/>
          <p:cNvPicPr/>
          <p:nvPr/>
        </p:nvPicPr>
        <p:blipFill>
          <a:blip r:embed="rId18">
            <a:lum bright="18000"/>
          </a:blip>
          <a:stretch/>
        </p:blipFill>
        <p:spPr>
          <a:xfrm>
            <a:off x="6477120" y="42670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33520" y="20574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SE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SR = S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00600" y="213372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SE = S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4560" y="31100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556272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orelační koefici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3733920" y="5113440"/>
                <a:ext cx="26668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437040" y="628668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odvození Sokal a Rohlf, 1994, 3. vyd., 559-5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edpoklady mod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446200"/>
            <a:ext cx="777240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yby jsou omezené na závisle proměnnou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nezávislé na úrovni vysvětlující proměnné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ají normální roz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ptyl je homogen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ineární regrese: numerický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600200" y="2057400"/>
          <a:ext cx="6076800" cy="1554120"/>
        </p:xfrm>
        <a:graphic>
          <a:graphicData uri="http://schemas.openxmlformats.org/drawingml/2006/table">
            <a:tbl>
              <a:tblPr/>
              <a:tblGrid>
                <a:gridCol w="2286000"/>
                <a:gridCol w="539640"/>
                <a:gridCol w="540000"/>
                <a:gridCol w="361800"/>
                <a:gridCol w="539640"/>
                <a:gridCol w="362160"/>
                <a:gridCol w="361800"/>
                <a:gridCol w="362160"/>
                <a:gridCol w="361800"/>
                <a:gridCol w="36180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in (%) 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áhový přírůstek (m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9480" y="4114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36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204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62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36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75 (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(0x12)+(1x10)+…+(8x3) =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Lineární regrese: numerický přík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12193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36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204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62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36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75 (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(0x12)+(1x10)+…+(8x3) =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685800" y="2438280"/>
                <a:ext cx="3352680" cy="24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6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8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343400" y="2209680"/>
                <a:ext cx="4572000" cy="25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X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666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b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89</m:t>
                        </m:r>
                        <m:r>
                          <m:t xml:space="preserve">;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,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67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OVA tabulka lineární 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09480" y="2057400"/>
          <a:ext cx="8305920" cy="4479840"/>
        </p:xfrm>
        <a:graphic>
          <a:graphicData uri="http://schemas.openxmlformats.org/drawingml/2006/table">
            <a:tbl>
              <a:tblPr/>
              <a:tblGrid>
                <a:gridCol w="1359000"/>
                <a:gridCol w="1359000"/>
                <a:gridCol w="1359000"/>
                <a:gridCol w="1358640"/>
                <a:gridCol w="1359000"/>
                <a:gridCol w="1511280"/>
              </a:tblGrid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dro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-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y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řední chyby sklonu a průsečí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932040" y="1523880"/>
                <a:ext cx="2528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831960" y="2286000"/>
                <a:ext cx="3354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SSX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7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4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342900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0,2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52680" y="2479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1,0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0440" y="3200400"/>
            <a:ext cx="22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cs-CZ" sz="2400" spc="-1" strike="noStrike" baseline="-10000">
                <a:solidFill>
                  <a:srgbClr val="000000"/>
                </a:solidFill>
                <a:latin typeface="Times New Roman"/>
              </a:rPr>
              <a:t>tabulk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048120" y="3124080"/>
                <a:ext cx="121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4328640" y="3165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0,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21160" y="3886200"/>
            <a:ext cx="228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i="1" lang="cs-CZ" sz="2400" spc="-1" strike="noStrike" baseline="-10000">
                <a:solidFill>
                  <a:srgbClr val="000000"/>
                </a:solidFill>
                <a:latin typeface="Times New Roman"/>
              </a:rPr>
              <a:t>tabulk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200400" y="3809880"/>
                <a:ext cx="15238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7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4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4785840" y="38512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2,4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ametry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1,756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,4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1,21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,4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rese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známení s d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vržení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tování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ritika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alýza odlehlých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jednodušení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 analý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4308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hadnout hodnoty parametrů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hadnout standardní chyby paramet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t standardní chyby k odhadu, které parametry modelu jsou důlež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hadnout, jaká část rozptylu dat je modelem vysvětlena (určení koeficientu determinac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vý krok: explorace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jí data sestupný či vzestupný tre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kud takový trend existuje, je lineární či nelineár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rozptyl dat kolem modelu homogenní, a nebo se systematicky mění s hodnotou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vislost váhy housenek na obsahu tani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1337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571500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761760" y="2362320"/>
            <a:ext cx="5461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hový přírůstek (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733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895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984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56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57200" y="347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57200" y="2631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360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21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568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840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D10300_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31240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81" name="BD10300_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438280" y="358128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82" name="BD10300_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971800" y="39625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3" name="BD10300_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3733920" y="32767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4" name="BD10300_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4495680" y="45720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85" name="BD10300_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5105520" y="41911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6" name="BD10300_" descr=""/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5867280" y="53341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87" name="BD10300_" descr="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7162920" y="51055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8" name="BD10300_" descr=""/>
          <p:cNvPicPr/>
          <p:nvPr/>
        </p:nvPicPr>
        <p:blipFill>
          <a:blip r:embed="rId9">
            <a:lum bright="18000"/>
          </a:blip>
          <a:stretch/>
        </p:blipFill>
        <p:spPr>
          <a:xfrm>
            <a:off x="6477120" y="510552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9880" y="61722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sah taninu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vislost váhy housenek na obsahu tani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lesá s rostoucí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end je lineár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pty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 systematicky nemění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 hodnotou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vislost váhy housenek na obsahu taninu: oček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ůsečík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větší než n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kl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negativ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ptyl kole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konstantní a relativně mal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etoda nejmenších čtverc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ouží k definici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římky nejlepší shod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která minimalizuj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mu čtverců odchylek hodnot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d přímky nejlepší shod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8:02:39Z</dcterms:created>
  <dc:creator>Vojtěch Jarošík</dc:creator>
  <dc:description/>
  <dc:language>en-US</dc:language>
  <cp:lastModifiedBy>Vojtěch Jarošík</cp:lastModifiedBy>
  <dcterms:modified xsi:type="dcterms:W3CDTF">2004-11-21T17:50:15Z</dcterms:modified>
  <cp:revision>31</cp:revision>
  <dc:subject/>
  <dc:title>Regrese</dc:title>
</cp:coreProperties>
</file>