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units 72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data vyno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dinput 7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:/cviceni/glex19.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ca b=%gl(4,18)$ (2 závlaha)x(3 porost)x(3 hnoj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ca z=%gl(2,9)$ (3 porost)x(3 hnoj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ca p=%gl(3,3)$ (3 hnoj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ca h=%gl(3,1)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factor b 4 z 2 p 3 h 3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look vynos b z p h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$tprint vynos;z;p;h;b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ýza rozpty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inuálně měřené proměnné vedou k regre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erimentální data vystavená diskrétním úrovním jednoho nebo více faktorů vedou k analýze rozptylu; úrovně faktoru se zpravidla nazývají ošetření (treatment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stické princi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 to takh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dyž se průměry průkazně neliší, SSE se blíží S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dyž se průměry průkazně liší, SSE je menší než S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A = SST - 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stické princi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dnocestná AN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7240" y="2019240"/>
          <a:ext cx="7743960" cy="40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2019240"/>
                    <a:ext cx="774396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stické princi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VA srovnává průměry porovnáním rozptyl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sou-li průměry stejné, SSE=SST, SSA=0 a F je n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sou-li průměry průkazně odlišné, SSE&lt;SST, SSA je velká, poměr SSA/SSE je veliký a F je velik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stické princi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VA srovnává variabilitu uvnitř a mezi úrovněmi fakto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-li variabilita mezi opakováními uvnitř úrovně faktoru veliká ve srovnání s variabilitou mezi úrovněmi, bývá rozdíl mezi úrovněmi neprůkaz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-li variabilita mezi opakováními uvnitř úrovně faktoru malá a variabilita mezi úrovněmi velká, bývá rozdíl průkazn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ýpoč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1640" y="80316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71400" y="930240"/>
                <a:ext cx="27860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ba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876920" y="914400"/>
                <a:ext cx="29844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09480" y="1981080"/>
                <a:ext cx="290844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4954680" y="2058840"/>
            <a:ext cx="2892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SA = SST - 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62120" y="3276720"/>
                <a:ext cx="26794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A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5031360" y="3278160"/>
            <a:ext cx="2593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SE = SST - S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6640" y="4344840"/>
            <a:ext cx="86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oučet pro ošetření; sum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akování pro danou úroveň faktor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6040" y="4691160"/>
            <a:ext cx="82191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žd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čtů ošetření je umocněn, jsou sečteny a vyděl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čtem opakování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ždé úrovně (vzorec se liší, pokud se liší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dnotlivých úrov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edpoklady AN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jsou nezávislé náhodné velič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ogenita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yby jsou nezávisl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yby mají normální rozlož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úrovně faktoru jsou aditiv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usí být sbírána náhodn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ud nejsou, je zpravidla celý pokus zkažený a nelze s tím nic dě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ogenita var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VA srovnává rozptyly díky rozdílům mezi ošetřeními (úrovněmi faktoru) s rozptyly mezi vzorky uvnitř ošetř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zptyly SSA, tj. mezi ošetřeními, se mohou lišit, ale rozptyly SSE, tj. mezi vzorky uvnitř ošetření, nikol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Úroveň ozonu ve třech zahradá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85800" y="2019240"/>
          <a:ext cx="7765920" cy="399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19240"/>
                    <a:ext cx="776592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Úroveň ozonu ve třech zahradá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okračování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85800" y="2019240"/>
          <a:ext cx="7765920" cy="399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19240"/>
                    <a:ext cx="776592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fak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nzita osvětlení o třech úrovních (plné světlo, jednoduché zastínění a dvojité zastíněn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erální směs o čtyřech úrovních (každá s jiným složením smě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závislost chy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zdíly mezi vzorky mohou ovlivnit hodnotu naší nezávisle proměnn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říklady: většina zavlažovaných ploch bude na lepší půdě; odpověď organismu bude záviset na pohlaví, věku, velikosti nebo genoty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k eliminovat problémy s nezávislostí chy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žitím statistických blok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zdělením materiálu do homogenních skupin (např. malí, střední a velcí jedinci) a užitím statistických blok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ýšením počtu replikac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člivou randomizac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82880" y="5259240"/>
            <a:ext cx="2466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stribuce leptokurtick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špičatá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ální rozložení chy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95280" y="23623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95280" y="43434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95280" y="44956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64008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95680" y="22860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95680" y="43434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95680" y="44956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640080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240" y="2897280"/>
            <a:ext cx="64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0200" y="5106960"/>
            <a:ext cx="64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71600" y="4233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5040" y="4192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21360" y="6402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63760" y="6402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05000" y="2664000"/>
            <a:ext cx="2773440" cy="1657080"/>
          </a:xfrm>
          <a:custGeom>
            <a:avLst/>
            <a:gdLst/>
            <a:ahLst/>
            <a:rect l="l" t="t" r="r" b="b"/>
            <a:pathLst>
              <a:path w="1747" h="1044">
                <a:moveTo>
                  <a:pt x="0" y="988"/>
                </a:moveTo>
                <a:lnTo>
                  <a:pt x="11" y="978"/>
                </a:lnTo>
                <a:lnTo>
                  <a:pt x="25" y="966"/>
                </a:lnTo>
                <a:lnTo>
                  <a:pt x="56" y="945"/>
                </a:lnTo>
                <a:lnTo>
                  <a:pt x="70" y="935"/>
                </a:lnTo>
                <a:lnTo>
                  <a:pt x="78" y="928"/>
                </a:lnTo>
                <a:lnTo>
                  <a:pt x="87" y="923"/>
                </a:lnTo>
                <a:lnTo>
                  <a:pt x="89" y="921"/>
                </a:lnTo>
                <a:lnTo>
                  <a:pt x="92" y="903"/>
                </a:lnTo>
                <a:lnTo>
                  <a:pt x="95" y="884"/>
                </a:lnTo>
                <a:lnTo>
                  <a:pt x="101" y="854"/>
                </a:lnTo>
                <a:lnTo>
                  <a:pt x="112" y="828"/>
                </a:lnTo>
                <a:lnTo>
                  <a:pt x="120" y="813"/>
                </a:lnTo>
                <a:lnTo>
                  <a:pt x="134" y="799"/>
                </a:lnTo>
                <a:lnTo>
                  <a:pt x="148" y="752"/>
                </a:lnTo>
                <a:lnTo>
                  <a:pt x="168" y="706"/>
                </a:lnTo>
                <a:lnTo>
                  <a:pt x="190" y="660"/>
                </a:lnTo>
                <a:lnTo>
                  <a:pt x="207" y="640"/>
                </a:lnTo>
                <a:lnTo>
                  <a:pt x="223" y="622"/>
                </a:lnTo>
                <a:lnTo>
                  <a:pt x="226" y="610"/>
                </a:lnTo>
                <a:lnTo>
                  <a:pt x="229" y="602"/>
                </a:lnTo>
                <a:lnTo>
                  <a:pt x="232" y="597"/>
                </a:lnTo>
                <a:lnTo>
                  <a:pt x="232" y="592"/>
                </a:lnTo>
                <a:lnTo>
                  <a:pt x="235" y="589"/>
                </a:lnTo>
                <a:lnTo>
                  <a:pt x="237" y="585"/>
                </a:lnTo>
                <a:lnTo>
                  <a:pt x="240" y="580"/>
                </a:lnTo>
                <a:lnTo>
                  <a:pt x="246" y="575"/>
                </a:lnTo>
                <a:lnTo>
                  <a:pt x="251" y="567"/>
                </a:lnTo>
                <a:lnTo>
                  <a:pt x="257" y="555"/>
                </a:lnTo>
                <a:lnTo>
                  <a:pt x="263" y="543"/>
                </a:lnTo>
                <a:lnTo>
                  <a:pt x="268" y="530"/>
                </a:lnTo>
                <a:lnTo>
                  <a:pt x="282" y="500"/>
                </a:lnTo>
                <a:lnTo>
                  <a:pt x="291" y="487"/>
                </a:lnTo>
                <a:lnTo>
                  <a:pt x="293" y="477"/>
                </a:lnTo>
                <a:lnTo>
                  <a:pt x="299" y="470"/>
                </a:lnTo>
                <a:lnTo>
                  <a:pt x="299" y="466"/>
                </a:lnTo>
                <a:lnTo>
                  <a:pt x="310" y="403"/>
                </a:lnTo>
                <a:lnTo>
                  <a:pt x="324" y="341"/>
                </a:lnTo>
                <a:lnTo>
                  <a:pt x="341" y="281"/>
                </a:lnTo>
                <a:lnTo>
                  <a:pt x="366" y="222"/>
                </a:lnTo>
                <a:lnTo>
                  <a:pt x="372" y="204"/>
                </a:lnTo>
                <a:lnTo>
                  <a:pt x="374" y="182"/>
                </a:lnTo>
                <a:lnTo>
                  <a:pt x="386" y="137"/>
                </a:lnTo>
                <a:lnTo>
                  <a:pt x="391" y="114"/>
                </a:lnTo>
                <a:lnTo>
                  <a:pt x="399" y="92"/>
                </a:lnTo>
                <a:lnTo>
                  <a:pt x="408" y="72"/>
                </a:lnTo>
                <a:lnTo>
                  <a:pt x="422" y="55"/>
                </a:lnTo>
                <a:lnTo>
                  <a:pt x="433" y="47"/>
                </a:lnTo>
                <a:lnTo>
                  <a:pt x="444" y="38"/>
                </a:lnTo>
                <a:lnTo>
                  <a:pt x="469" y="27"/>
                </a:lnTo>
                <a:lnTo>
                  <a:pt x="497" y="18"/>
                </a:lnTo>
                <a:lnTo>
                  <a:pt x="522" y="12"/>
                </a:lnTo>
                <a:lnTo>
                  <a:pt x="534" y="8"/>
                </a:lnTo>
                <a:lnTo>
                  <a:pt x="545" y="3"/>
                </a:lnTo>
                <a:lnTo>
                  <a:pt x="553" y="2"/>
                </a:lnTo>
                <a:lnTo>
                  <a:pt x="556" y="0"/>
                </a:lnTo>
                <a:lnTo>
                  <a:pt x="559" y="0"/>
                </a:lnTo>
                <a:lnTo>
                  <a:pt x="567" y="3"/>
                </a:lnTo>
                <a:lnTo>
                  <a:pt x="578" y="5"/>
                </a:lnTo>
                <a:lnTo>
                  <a:pt x="592" y="8"/>
                </a:lnTo>
                <a:lnTo>
                  <a:pt x="606" y="13"/>
                </a:lnTo>
                <a:lnTo>
                  <a:pt x="620" y="17"/>
                </a:lnTo>
                <a:lnTo>
                  <a:pt x="629" y="20"/>
                </a:lnTo>
                <a:lnTo>
                  <a:pt x="634" y="22"/>
                </a:lnTo>
                <a:lnTo>
                  <a:pt x="645" y="33"/>
                </a:lnTo>
                <a:lnTo>
                  <a:pt x="654" y="43"/>
                </a:lnTo>
                <a:lnTo>
                  <a:pt x="659" y="50"/>
                </a:lnTo>
                <a:lnTo>
                  <a:pt x="662" y="55"/>
                </a:lnTo>
                <a:lnTo>
                  <a:pt x="662" y="64"/>
                </a:lnTo>
                <a:lnTo>
                  <a:pt x="659" y="65"/>
                </a:lnTo>
                <a:lnTo>
                  <a:pt x="656" y="67"/>
                </a:lnTo>
                <a:lnTo>
                  <a:pt x="662" y="69"/>
                </a:lnTo>
                <a:lnTo>
                  <a:pt x="668" y="70"/>
                </a:lnTo>
                <a:lnTo>
                  <a:pt x="676" y="74"/>
                </a:lnTo>
                <a:lnTo>
                  <a:pt x="690" y="77"/>
                </a:lnTo>
                <a:lnTo>
                  <a:pt x="715" y="155"/>
                </a:lnTo>
                <a:lnTo>
                  <a:pt x="729" y="196"/>
                </a:lnTo>
                <a:lnTo>
                  <a:pt x="746" y="232"/>
                </a:lnTo>
                <a:lnTo>
                  <a:pt x="754" y="256"/>
                </a:lnTo>
                <a:lnTo>
                  <a:pt x="760" y="268"/>
                </a:lnTo>
                <a:lnTo>
                  <a:pt x="768" y="278"/>
                </a:lnTo>
                <a:lnTo>
                  <a:pt x="774" y="281"/>
                </a:lnTo>
                <a:lnTo>
                  <a:pt x="782" y="284"/>
                </a:lnTo>
                <a:lnTo>
                  <a:pt x="799" y="288"/>
                </a:lnTo>
                <a:lnTo>
                  <a:pt x="819" y="311"/>
                </a:lnTo>
                <a:lnTo>
                  <a:pt x="832" y="338"/>
                </a:lnTo>
                <a:lnTo>
                  <a:pt x="844" y="368"/>
                </a:lnTo>
                <a:lnTo>
                  <a:pt x="852" y="400"/>
                </a:lnTo>
                <a:lnTo>
                  <a:pt x="863" y="463"/>
                </a:lnTo>
                <a:lnTo>
                  <a:pt x="869" y="493"/>
                </a:lnTo>
                <a:lnTo>
                  <a:pt x="877" y="522"/>
                </a:lnTo>
                <a:lnTo>
                  <a:pt x="888" y="538"/>
                </a:lnTo>
                <a:lnTo>
                  <a:pt x="900" y="555"/>
                </a:lnTo>
                <a:lnTo>
                  <a:pt x="905" y="567"/>
                </a:lnTo>
                <a:lnTo>
                  <a:pt x="908" y="577"/>
                </a:lnTo>
                <a:lnTo>
                  <a:pt x="914" y="592"/>
                </a:lnTo>
                <a:lnTo>
                  <a:pt x="916" y="599"/>
                </a:lnTo>
                <a:lnTo>
                  <a:pt x="922" y="607"/>
                </a:lnTo>
                <a:lnTo>
                  <a:pt x="933" y="614"/>
                </a:lnTo>
                <a:lnTo>
                  <a:pt x="944" y="622"/>
                </a:lnTo>
                <a:lnTo>
                  <a:pt x="961" y="629"/>
                </a:lnTo>
                <a:lnTo>
                  <a:pt x="978" y="635"/>
                </a:lnTo>
                <a:lnTo>
                  <a:pt x="1011" y="644"/>
                </a:lnTo>
                <a:lnTo>
                  <a:pt x="1017" y="660"/>
                </a:lnTo>
                <a:lnTo>
                  <a:pt x="1020" y="672"/>
                </a:lnTo>
                <a:lnTo>
                  <a:pt x="1022" y="684"/>
                </a:lnTo>
                <a:lnTo>
                  <a:pt x="1025" y="692"/>
                </a:lnTo>
                <a:lnTo>
                  <a:pt x="1028" y="699"/>
                </a:lnTo>
                <a:lnTo>
                  <a:pt x="1031" y="706"/>
                </a:lnTo>
                <a:lnTo>
                  <a:pt x="1036" y="712"/>
                </a:lnTo>
                <a:lnTo>
                  <a:pt x="1045" y="716"/>
                </a:lnTo>
                <a:lnTo>
                  <a:pt x="1059" y="717"/>
                </a:lnTo>
                <a:lnTo>
                  <a:pt x="1081" y="719"/>
                </a:lnTo>
                <a:lnTo>
                  <a:pt x="1095" y="721"/>
                </a:lnTo>
                <a:lnTo>
                  <a:pt x="1112" y="722"/>
                </a:lnTo>
                <a:lnTo>
                  <a:pt x="1134" y="751"/>
                </a:lnTo>
                <a:lnTo>
                  <a:pt x="1154" y="776"/>
                </a:lnTo>
                <a:lnTo>
                  <a:pt x="1179" y="796"/>
                </a:lnTo>
                <a:lnTo>
                  <a:pt x="1196" y="804"/>
                </a:lnTo>
                <a:lnTo>
                  <a:pt x="1212" y="811"/>
                </a:lnTo>
                <a:lnTo>
                  <a:pt x="1224" y="819"/>
                </a:lnTo>
                <a:lnTo>
                  <a:pt x="1235" y="828"/>
                </a:lnTo>
                <a:lnTo>
                  <a:pt x="1249" y="838"/>
                </a:lnTo>
                <a:lnTo>
                  <a:pt x="1260" y="844"/>
                </a:lnTo>
                <a:lnTo>
                  <a:pt x="1268" y="849"/>
                </a:lnTo>
                <a:lnTo>
                  <a:pt x="1277" y="853"/>
                </a:lnTo>
                <a:lnTo>
                  <a:pt x="1293" y="858"/>
                </a:lnTo>
                <a:lnTo>
                  <a:pt x="1305" y="861"/>
                </a:lnTo>
                <a:lnTo>
                  <a:pt x="1319" y="866"/>
                </a:lnTo>
                <a:lnTo>
                  <a:pt x="1335" y="871"/>
                </a:lnTo>
                <a:lnTo>
                  <a:pt x="1355" y="878"/>
                </a:lnTo>
                <a:lnTo>
                  <a:pt x="1366" y="881"/>
                </a:lnTo>
                <a:lnTo>
                  <a:pt x="1377" y="884"/>
                </a:lnTo>
                <a:lnTo>
                  <a:pt x="1386" y="886"/>
                </a:lnTo>
                <a:lnTo>
                  <a:pt x="1388" y="888"/>
                </a:lnTo>
                <a:lnTo>
                  <a:pt x="1416" y="906"/>
                </a:lnTo>
                <a:lnTo>
                  <a:pt x="1444" y="923"/>
                </a:lnTo>
                <a:lnTo>
                  <a:pt x="1469" y="936"/>
                </a:lnTo>
                <a:lnTo>
                  <a:pt x="1495" y="948"/>
                </a:lnTo>
                <a:lnTo>
                  <a:pt x="1520" y="958"/>
                </a:lnTo>
                <a:lnTo>
                  <a:pt x="1548" y="965"/>
                </a:lnTo>
                <a:lnTo>
                  <a:pt x="1578" y="971"/>
                </a:lnTo>
                <a:lnTo>
                  <a:pt x="1612" y="976"/>
                </a:lnTo>
                <a:lnTo>
                  <a:pt x="1637" y="985"/>
                </a:lnTo>
                <a:lnTo>
                  <a:pt x="1651" y="990"/>
                </a:lnTo>
                <a:lnTo>
                  <a:pt x="1662" y="993"/>
                </a:lnTo>
                <a:lnTo>
                  <a:pt x="1671" y="995"/>
                </a:lnTo>
                <a:lnTo>
                  <a:pt x="1676" y="998"/>
                </a:lnTo>
                <a:lnTo>
                  <a:pt x="1682" y="1003"/>
                </a:lnTo>
                <a:lnTo>
                  <a:pt x="1690" y="1010"/>
                </a:lnTo>
                <a:lnTo>
                  <a:pt x="1701" y="1022"/>
                </a:lnTo>
                <a:lnTo>
                  <a:pt x="1710" y="1018"/>
                </a:lnTo>
                <a:lnTo>
                  <a:pt x="1718" y="1013"/>
                </a:lnTo>
                <a:lnTo>
                  <a:pt x="1726" y="1010"/>
                </a:lnTo>
                <a:lnTo>
                  <a:pt x="1735" y="1012"/>
                </a:lnTo>
                <a:lnTo>
                  <a:pt x="1738" y="1015"/>
                </a:lnTo>
                <a:lnTo>
                  <a:pt x="1740" y="1018"/>
                </a:lnTo>
                <a:lnTo>
                  <a:pt x="1743" y="1030"/>
                </a:lnTo>
                <a:lnTo>
                  <a:pt x="1746" y="1038"/>
                </a:lnTo>
                <a:lnTo>
                  <a:pt x="1746" y="1042"/>
                </a:lnTo>
                <a:lnTo>
                  <a:pt x="1746" y="10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16560" y="2451240"/>
            <a:ext cx="2895480" cy="1834920"/>
          </a:xfrm>
          <a:custGeom>
            <a:avLst/>
            <a:gdLst/>
            <a:ahLst/>
            <a:rect l="l" t="t" r="r" b="b"/>
            <a:pathLst>
              <a:path w="1824" h="1156">
                <a:moveTo>
                  <a:pt x="0" y="1155"/>
                </a:moveTo>
                <a:lnTo>
                  <a:pt x="26" y="1138"/>
                </a:lnTo>
                <a:lnTo>
                  <a:pt x="53" y="1122"/>
                </a:lnTo>
                <a:lnTo>
                  <a:pt x="111" y="1081"/>
                </a:lnTo>
                <a:lnTo>
                  <a:pt x="172" y="1040"/>
                </a:lnTo>
                <a:lnTo>
                  <a:pt x="198" y="1020"/>
                </a:lnTo>
                <a:lnTo>
                  <a:pt x="222" y="1000"/>
                </a:lnTo>
                <a:lnTo>
                  <a:pt x="239" y="983"/>
                </a:lnTo>
                <a:lnTo>
                  <a:pt x="254" y="964"/>
                </a:lnTo>
                <a:lnTo>
                  <a:pt x="271" y="948"/>
                </a:lnTo>
                <a:lnTo>
                  <a:pt x="289" y="935"/>
                </a:lnTo>
                <a:lnTo>
                  <a:pt x="306" y="926"/>
                </a:lnTo>
                <a:lnTo>
                  <a:pt x="327" y="918"/>
                </a:lnTo>
                <a:lnTo>
                  <a:pt x="370" y="903"/>
                </a:lnTo>
                <a:lnTo>
                  <a:pt x="391" y="898"/>
                </a:lnTo>
                <a:lnTo>
                  <a:pt x="408" y="892"/>
                </a:lnTo>
                <a:lnTo>
                  <a:pt x="420" y="890"/>
                </a:lnTo>
                <a:lnTo>
                  <a:pt x="423" y="889"/>
                </a:lnTo>
                <a:lnTo>
                  <a:pt x="455" y="853"/>
                </a:lnTo>
                <a:lnTo>
                  <a:pt x="473" y="837"/>
                </a:lnTo>
                <a:lnTo>
                  <a:pt x="490" y="822"/>
                </a:lnTo>
                <a:lnTo>
                  <a:pt x="513" y="811"/>
                </a:lnTo>
                <a:lnTo>
                  <a:pt x="537" y="803"/>
                </a:lnTo>
                <a:lnTo>
                  <a:pt x="560" y="792"/>
                </a:lnTo>
                <a:lnTo>
                  <a:pt x="569" y="787"/>
                </a:lnTo>
                <a:lnTo>
                  <a:pt x="578" y="778"/>
                </a:lnTo>
                <a:lnTo>
                  <a:pt x="586" y="763"/>
                </a:lnTo>
                <a:lnTo>
                  <a:pt x="592" y="746"/>
                </a:lnTo>
                <a:lnTo>
                  <a:pt x="601" y="711"/>
                </a:lnTo>
                <a:lnTo>
                  <a:pt x="607" y="676"/>
                </a:lnTo>
                <a:lnTo>
                  <a:pt x="613" y="659"/>
                </a:lnTo>
                <a:lnTo>
                  <a:pt x="621" y="644"/>
                </a:lnTo>
                <a:lnTo>
                  <a:pt x="656" y="600"/>
                </a:lnTo>
                <a:lnTo>
                  <a:pt x="688" y="555"/>
                </a:lnTo>
                <a:lnTo>
                  <a:pt x="691" y="548"/>
                </a:lnTo>
                <a:lnTo>
                  <a:pt x="694" y="539"/>
                </a:lnTo>
                <a:lnTo>
                  <a:pt x="700" y="515"/>
                </a:lnTo>
                <a:lnTo>
                  <a:pt x="709" y="487"/>
                </a:lnTo>
                <a:lnTo>
                  <a:pt x="718" y="455"/>
                </a:lnTo>
                <a:lnTo>
                  <a:pt x="726" y="426"/>
                </a:lnTo>
                <a:lnTo>
                  <a:pt x="738" y="398"/>
                </a:lnTo>
                <a:lnTo>
                  <a:pt x="753" y="374"/>
                </a:lnTo>
                <a:lnTo>
                  <a:pt x="758" y="363"/>
                </a:lnTo>
                <a:lnTo>
                  <a:pt x="767" y="355"/>
                </a:lnTo>
                <a:lnTo>
                  <a:pt x="779" y="318"/>
                </a:lnTo>
                <a:lnTo>
                  <a:pt x="788" y="285"/>
                </a:lnTo>
                <a:lnTo>
                  <a:pt x="802" y="254"/>
                </a:lnTo>
                <a:lnTo>
                  <a:pt x="817" y="224"/>
                </a:lnTo>
                <a:lnTo>
                  <a:pt x="834" y="196"/>
                </a:lnTo>
                <a:lnTo>
                  <a:pt x="855" y="170"/>
                </a:lnTo>
                <a:lnTo>
                  <a:pt x="881" y="144"/>
                </a:lnTo>
                <a:lnTo>
                  <a:pt x="910" y="122"/>
                </a:lnTo>
                <a:lnTo>
                  <a:pt x="919" y="111"/>
                </a:lnTo>
                <a:lnTo>
                  <a:pt x="925" y="102"/>
                </a:lnTo>
                <a:lnTo>
                  <a:pt x="942" y="89"/>
                </a:lnTo>
                <a:lnTo>
                  <a:pt x="957" y="81"/>
                </a:lnTo>
                <a:lnTo>
                  <a:pt x="974" y="78"/>
                </a:lnTo>
                <a:lnTo>
                  <a:pt x="992" y="76"/>
                </a:lnTo>
                <a:lnTo>
                  <a:pt x="1009" y="74"/>
                </a:lnTo>
                <a:lnTo>
                  <a:pt x="1033" y="72"/>
                </a:lnTo>
                <a:lnTo>
                  <a:pt x="1056" y="67"/>
                </a:lnTo>
                <a:lnTo>
                  <a:pt x="1091" y="52"/>
                </a:lnTo>
                <a:lnTo>
                  <a:pt x="1126" y="39"/>
                </a:lnTo>
                <a:lnTo>
                  <a:pt x="1161" y="22"/>
                </a:lnTo>
                <a:lnTo>
                  <a:pt x="1175" y="13"/>
                </a:lnTo>
                <a:lnTo>
                  <a:pt x="1190" y="0"/>
                </a:lnTo>
                <a:lnTo>
                  <a:pt x="1219" y="13"/>
                </a:lnTo>
                <a:lnTo>
                  <a:pt x="1245" y="30"/>
                </a:lnTo>
                <a:lnTo>
                  <a:pt x="1272" y="48"/>
                </a:lnTo>
                <a:lnTo>
                  <a:pt x="1295" y="72"/>
                </a:lnTo>
                <a:lnTo>
                  <a:pt x="1315" y="96"/>
                </a:lnTo>
                <a:lnTo>
                  <a:pt x="1336" y="122"/>
                </a:lnTo>
                <a:lnTo>
                  <a:pt x="1368" y="178"/>
                </a:lnTo>
                <a:lnTo>
                  <a:pt x="1377" y="228"/>
                </a:lnTo>
                <a:lnTo>
                  <a:pt x="1388" y="278"/>
                </a:lnTo>
                <a:lnTo>
                  <a:pt x="1415" y="374"/>
                </a:lnTo>
                <a:lnTo>
                  <a:pt x="1444" y="470"/>
                </a:lnTo>
                <a:lnTo>
                  <a:pt x="1458" y="518"/>
                </a:lnTo>
                <a:lnTo>
                  <a:pt x="1467" y="566"/>
                </a:lnTo>
                <a:lnTo>
                  <a:pt x="1467" y="572"/>
                </a:lnTo>
                <a:lnTo>
                  <a:pt x="1470" y="579"/>
                </a:lnTo>
                <a:lnTo>
                  <a:pt x="1470" y="592"/>
                </a:lnTo>
                <a:lnTo>
                  <a:pt x="1473" y="609"/>
                </a:lnTo>
                <a:lnTo>
                  <a:pt x="1476" y="628"/>
                </a:lnTo>
                <a:lnTo>
                  <a:pt x="1479" y="648"/>
                </a:lnTo>
                <a:lnTo>
                  <a:pt x="1485" y="692"/>
                </a:lnTo>
                <a:lnTo>
                  <a:pt x="1493" y="739"/>
                </a:lnTo>
                <a:lnTo>
                  <a:pt x="1496" y="759"/>
                </a:lnTo>
                <a:lnTo>
                  <a:pt x="1502" y="779"/>
                </a:lnTo>
                <a:lnTo>
                  <a:pt x="1508" y="798"/>
                </a:lnTo>
                <a:lnTo>
                  <a:pt x="1511" y="815"/>
                </a:lnTo>
                <a:lnTo>
                  <a:pt x="1517" y="826"/>
                </a:lnTo>
                <a:lnTo>
                  <a:pt x="1523" y="835"/>
                </a:lnTo>
                <a:lnTo>
                  <a:pt x="1531" y="842"/>
                </a:lnTo>
                <a:lnTo>
                  <a:pt x="1540" y="846"/>
                </a:lnTo>
                <a:lnTo>
                  <a:pt x="1558" y="853"/>
                </a:lnTo>
                <a:lnTo>
                  <a:pt x="1581" y="859"/>
                </a:lnTo>
                <a:lnTo>
                  <a:pt x="1601" y="866"/>
                </a:lnTo>
                <a:lnTo>
                  <a:pt x="1630" y="920"/>
                </a:lnTo>
                <a:lnTo>
                  <a:pt x="1648" y="944"/>
                </a:lnTo>
                <a:lnTo>
                  <a:pt x="1668" y="966"/>
                </a:lnTo>
                <a:lnTo>
                  <a:pt x="1677" y="996"/>
                </a:lnTo>
                <a:lnTo>
                  <a:pt x="1683" y="1020"/>
                </a:lnTo>
                <a:lnTo>
                  <a:pt x="1689" y="1040"/>
                </a:lnTo>
                <a:lnTo>
                  <a:pt x="1695" y="1055"/>
                </a:lnTo>
                <a:lnTo>
                  <a:pt x="1703" y="1068"/>
                </a:lnTo>
                <a:lnTo>
                  <a:pt x="1718" y="1079"/>
                </a:lnTo>
                <a:lnTo>
                  <a:pt x="1738" y="1090"/>
                </a:lnTo>
                <a:lnTo>
                  <a:pt x="1768" y="1100"/>
                </a:lnTo>
                <a:lnTo>
                  <a:pt x="1779" y="1109"/>
                </a:lnTo>
                <a:lnTo>
                  <a:pt x="1788" y="1114"/>
                </a:lnTo>
                <a:lnTo>
                  <a:pt x="1794" y="1118"/>
                </a:lnTo>
                <a:lnTo>
                  <a:pt x="1797" y="1120"/>
                </a:lnTo>
                <a:lnTo>
                  <a:pt x="1805" y="1126"/>
                </a:lnTo>
                <a:lnTo>
                  <a:pt x="1811" y="1129"/>
                </a:lnTo>
                <a:lnTo>
                  <a:pt x="1823" y="11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87360" y="5643720"/>
            <a:ext cx="2914920" cy="690480"/>
          </a:xfrm>
          <a:custGeom>
            <a:avLst/>
            <a:gdLst/>
            <a:ahLst/>
            <a:rect l="l" t="t" r="r" b="b"/>
            <a:pathLst>
              <a:path w="1836" h="435">
                <a:moveTo>
                  <a:pt x="0" y="434"/>
                </a:moveTo>
                <a:lnTo>
                  <a:pt x="6" y="428"/>
                </a:lnTo>
                <a:lnTo>
                  <a:pt x="15" y="421"/>
                </a:lnTo>
                <a:lnTo>
                  <a:pt x="29" y="411"/>
                </a:lnTo>
                <a:lnTo>
                  <a:pt x="44" y="403"/>
                </a:lnTo>
                <a:lnTo>
                  <a:pt x="62" y="396"/>
                </a:lnTo>
                <a:lnTo>
                  <a:pt x="79" y="391"/>
                </a:lnTo>
                <a:lnTo>
                  <a:pt x="97" y="386"/>
                </a:lnTo>
                <a:lnTo>
                  <a:pt x="135" y="378"/>
                </a:lnTo>
                <a:lnTo>
                  <a:pt x="147" y="373"/>
                </a:lnTo>
                <a:lnTo>
                  <a:pt x="159" y="368"/>
                </a:lnTo>
                <a:lnTo>
                  <a:pt x="167" y="363"/>
                </a:lnTo>
                <a:lnTo>
                  <a:pt x="179" y="356"/>
                </a:lnTo>
                <a:lnTo>
                  <a:pt x="182" y="353"/>
                </a:lnTo>
                <a:lnTo>
                  <a:pt x="185" y="348"/>
                </a:lnTo>
                <a:lnTo>
                  <a:pt x="188" y="338"/>
                </a:lnTo>
                <a:lnTo>
                  <a:pt x="194" y="329"/>
                </a:lnTo>
                <a:lnTo>
                  <a:pt x="197" y="325"/>
                </a:lnTo>
                <a:lnTo>
                  <a:pt x="200" y="322"/>
                </a:lnTo>
                <a:lnTo>
                  <a:pt x="208" y="319"/>
                </a:lnTo>
                <a:lnTo>
                  <a:pt x="214" y="317"/>
                </a:lnTo>
                <a:lnTo>
                  <a:pt x="223" y="315"/>
                </a:lnTo>
                <a:lnTo>
                  <a:pt x="232" y="315"/>
                </a:lnTo>
                <a:lnTo>
                  <a:pt x="250" y="313"/>
                </a:lnTo>
                <a:lnTo>
                  <a:pt x="258" y="312"/>
                </a:lnTo>
                <a:lnTo>
                  <a:pt x="267" y="311"/>
                </a:lnTo>
                <a:lnTo>
                  <a:pt x="282" y="305"/>
                </a:lnTo>
                <a:lnTo>
                  <a:pt x="294" y="299"/>
                </a:lnTo>
                <a:lnTo>
                  <a:pt x="302" y="292"/>
                </a:lnTo>
                <a:lnTo>
                  <a:pt x="311" y="284"/>
                </a:lnTo>
                <a:lnTo>
                  <a:pt x="317" y="276"/>
                </a:lnTo>
                <a:lnTo>
                  <a:pt x="326" y="267"/>
                </a:lnTo>
                <a:lnTo>
                  <a:pt x="335" y="257"/>
                </a:lnTo>
                <a:lnTo>
                  <a:pt x="346" y="245"/>
                </a:lnTo>
                <a:lnTo>
                  <a:pt x="349" y="234"/>
                </a:lnTo>
                <a:lnTo>
                  <a:pt x="352" y="225"/>
                </a:lnTo>
                <a:lnTo>
                  <a:pt x="355" y="218"/>
                </a:lnTo>
                <a:lnTo>
                  <a:pt x="355" y="212"/>
                </a:lnTo>
                <a:lnTo>
                  <a:pt x="358" y="207"/>
                </a:lnTo>
                <a:lnTo>
                  <a:pt x="358" y="203"/>
                </a:lnTo>
                <a:lnTo>
                  <a:pt x="358" y="201"/>
                </a:lnTo>
                <a:lnTo>
                  <a:pt x="358" y="200"/>
                </a:lnTo>
                <a:lnTo>
                  <a:pt x="358" y="203"/>
                </a:lnTo>
                <a:lnTo>
                  <a:pt x="355" y="208"/>
                </a:lnTo>
                <a:lnTo>
                  <a:pt x="355" y="214"/>
                </a:lnTo>
                <a:lnTo>
                  <a:pt x="355" y="219"/>
                </a:lnTo>
                <a:lnTo>
                  <a:pt x="352" y="224"/>
                </a:lnTo>
                <a:lnTo>
                  <a:pt x="355" y="228"/>
                </a:lnTo>
                <a:lnTo>
                  <a:pt x="355" y="229"/>
                </a:lnTo>
                <a:lnTo>
                  <a:pt x="358" y="229"/>
                </a:lnTo>
                <a:lnTo>
                  <a:pt x="358" y="228"/>
                </a:lnTo>
                <a:lnTo>
                  <a:pt x="361" y="226"/>
                </a:lnTo>
                <a:lnTo>
                  <a:pt x="364" y="224"/>
                </a:lnTo>
                <a:lnTo>
                  <a:pt x="367" y="219"/>
                </a:lnTo>
                <a:lnTo>
                  <a:pt x="370" y="214"/>
                </a:lnTo>
                <a:lnTo>
                  <a:pt x="376" y="207"/>
                </a:lnTo>
                <a:lnTo>
                  <a:pt x="382" y="199"/>
                </a:lnTo>
                <a:lnTo>
                  <a:pt x="388" y="189"/>
                </a:lnTo>
                <a:lnTo>
                  <a:pt x="396" y="173"/>
                </a:lnTo>
                <a:lnTo>
                  <a:pt x="402" y="156"/>
                </a:lnTo>
                <a:lnTo>
                  <a:pt x="405" y="138"/>
                </a:lnTo>
                <a:lnTo>
                  <a:pt x="411" y="122"/>
                </a:lnTo>
                <a:lnTo>
                  <a:pt x="423" y="105"/>
                </a:lnTo>
                <a:lnTo>
                  <a:pt x="435" y="89"/>
                </a:lnTo>
                <a:lnTo>
                  <a:pt x="440" y="71"/>
                </a:lnTo>
                <a:lnTo>
                  <a:pt x="449" y="56"/>
                </a:lnTo>
                <a:lnTo>
                  <a:pt x="461" y="44"/>
                </a:lnTo>
                <a:lnTo>
                  <a:pt x="473" y="33"/>
                </a:lnTo>
                <a:lnTo>
                  <a:pt x="484" y="24"/>
                </a:lnTo>
                <a:lnTo>
                  <a:pt x="496" y="18"/>
                </a:lnTo>
                <a:lnTo>
                  <a:pt x="511" y="13"/>
                </a:lnTo>
                <a:lnTo>
                  <a:pt x="528" y="9"/>
                </a:lnTo>
                <a:lnTo>
                  <a:pt x="543" y="6"/>
                </a:lnTo>
                <a:lnTo>
                  <a:pt x="561" y="4"/>
                </a:lnTo>
                <a:lnTo>
                  <a:pt x="596" y="2"/>
                </a:lnTo>
                <a:lnTo>
                  <a:pt x="631" y="1"/>
                </a:lnTo>
                <a:lnTo>
                  <a:pt x="666" y="0"/>
                </a:lnTo>
                <a:lnTo>
                  <a:pt x="713" y="4"/>
                </a:lnTo>
                <a:lnTo>
                  <a:pt x="760" y="7"/>
                </a:lnTo>
                <a:lnTo>
                  <a:pt x="807" y="10"/>
                </a:lnTo>
                <a:lnTo>
                  <a:pt x="854" y="11"/>
                </a:lnTo>
                <a:lnTo>
                  <a:pt x="948" y="13"/>
                </a:lnTo>
                <a:lnTo>
                  <a:pt x="1039" y="14"/>
                </a:lnTo>
                <a:lnTo>
                  <a:pt x="1133" y="16"/>
                </a:lnTo>
                <a:lnTo>
                  <a:pt x="1227" y="19"/>
                </a:lnTo>
                <a:lnTo>
                  <a:pt x="1274" y="21"/>
                </a:lnTo>
                <a:lnTo>
                  <a:pt x="1318" y="24"/>
                </a:lnTo>
                <a:lnTo>
                  <a:pt x="1365" y="29"/>
                </a:lnTo>
                <a:lnTo>
                  <a:pt x="1412" y="34"/>
                </a:lnTo>
                <a:lnTo>
                  <a:pt x="1430" y="43"/>
                </a:lnTo>
                <a:lnTo>
                  <a:pt x="1442" y="49"/>
                </a:lnTo>
                <a:lnTo>
                  <a:pt x="1453" y="54"/>
                </a:lnTo>
                <a:lnTo>
                  <a:pt x="1465" y="59"/>
                </a:lnTo>
                <a:lnTo>
                  <a:pt x="1471" y="62"/>
                </a:lnTo>
                <a:lnTo>
                  <a:pt x="1477" y="64"/>
                </a:lnTo>
                <a:lnTo>
                  <a:pt x="1486" y="69"/>
                </a:lnTo>
                <a:lnTo>
                  <a:pt x="1494" y="72"/>
                </a:lnTo>
                <a:lnTo>
                  <a:pt x="1497" y="74"/>
                </a:lnTo>
                <a:lnTo>
                  <a:pt x="1500" y="78"/>
                </a:lnTo>
                <a:lnTo>
                  <a:pt x="1503" y="82"/>
                </a:lnTo>
                <a:lnTo>
                  <a:pt x="1509" y="87"/>
                </a:lnTo>
                <a:lnTo>
                  <a:pt x="1515" y="92"/>
                </a:lnTo>
                <a:lnTo>
                  <a:pt x="1524" y="100"/>
                </a:lnTo>
                <a:lnTo>
                  <a:pt x="1530" y="116"/>
                </a:lnTo>
                <a:lnTo>
                  <a:pt x="1538" y="130"/>
                </a:lnTo>
                <a:lnTo>
                  <a:pt x="1544" y="143"/>
                </a:lnTo>
                <a:lnTo>
                  <a:pt x="1550" y="155"/>
                </a:lnTo>
                <a:lnTo>
                  <a:pt x="1559" y="165"/>
                </a:lnTo>
                <a:lnTo>
                  <a:pt x="1571" y="175"/>
                </a:lnTo>
                <a:lnTo>
                  <a:pt x="1583" y="183"/>
                </a:lnTo>
                <a:lnTo>
                  <a:pt x="1600" y="189"/>
                </a:lnTo>
                <a:lnTo>
                  <a:pt x="1609" y="211"/>
                </a:lnTo>
                <a:lnTo>
                  <a:pt x="1615" y="230"/>
                </a:lnTo>
                <a:lnTo>
                  <a:pt x="1624" y="249"/>
                </a:lnTo>
                <a:lnTo>
                  <a:pt x="1632" y="265"/>
                </a:lnTo>
                <a:lnTo>
                  <a:pt x="1638" y="281"/>
                </a:lnTo>
                <a:lnTo>
                  <a:pt x="1647" y="295"/>
                </a:lnTo>
                <a:lnTo>
                  <a:pt x="1656" y="308"/>
                </a:lnTo>
                <a:lnTo>
                  <a:pt x="1665" y="320"/>
                </a:lnTo>
                <a:lnTo>
                  <a:pt x="1676" y="330"/>
                </a:lnTo>
                <a:lnTo>
                  <a:pt x="1688" y="340"/>
                </a:lnTo>
                <a:lnTo>
                  <a:pt x="1700" y="349"/>
                </a:lnTo>
                <a:lnTo>
                  <a:pt x="1715" y="356"/>
                </a:lnTo>
                <a:lnTo>
                  <a:pt x="1729" y="363"/>
                </a:lnTo>
                <a:lnTo>
                  <a:pt x="1747" y="369"/>
                </a:lnTo>
                <a:lnTo>
                  <a:pt x="1767" y="373"/>
                </a:lnTo>
                <a:lnTo>
                  <a:pt x="1788" y="378"/>
                </a:lnTo>
                <a:lnTo>
                  <a:pt x="1791" y="386"/>
                </a:lnTo>
                <a:lnTo>
                  <a:pt x="1791" y="392"/>
                </a:lnTo>
                <a:lnTo>
                  <a:pt x="1794" y="397"/>
                </a:lnTo>
                <a:lnTo>
                  <a:pt x="1794" y="402"/>
                </a:lnTo>
                <a:lnTo>
                  <a:pt x="1797" y="405"/>
                </a:lnTo>
                <a:lnTo>
                  <a:pt x="1797" y="408"/>
                </a:lnTo>
                <a:lnTo>
                  <a:pt x="1800" y="411"/>
                </a:lnTo>
                <a:lnTo>
                  <a:pt x="1803" y="413"/>
                </a:lnTo>
                <a:lnTo>
                  <a:pt x="1809" y="412"/>
                </a:lnTo>
                <a:lnTo>
                  <a:pt x="1820" y="412"/>
                </a:lnTo>
                <a:lnTo>
                  <a:pt x="1835" y="4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89400" y="2043000"/>
            <a:ext cx="296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stribuce sešikmená vpra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30040" y="1981080"/>
            <a:ext cx="281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stribuce sešikmená vle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14160" y="4862520"/>
            <a:ext cx="2511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stribuce platykurtick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placatá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16560" y="4727520"/>
            <a:ext cx="3019320" cy="1622520"/>
          </a:xfrm>
          <a:custGeom>
            <a:avLst/>
            <a:gdLst/>
            <a:ahLst/>
            <a:rect l="l" t="t" r="r" b="b"/>
            <a:pathLst>
              <a:path w="1902" h="1022">
                <a:moveTo>
                  <a:pt x="0" y="1021"/>
                </a:moveTo>
                <a:lnTo>
                  <a:pt x="67" y="1012"/>
                </a:lnTo>
                <a:lnTo>
                  <a:pt x="134" y="1002"/>
                </a:lnTo>
                <a:lnTo>
                  <a:pt x="201" y="990"/>
                </a:lnTo>
                <a:lnTo>
                  <a:pt x="268" y="977"/>
                </a:lnTo>
                <a:lnTo>
                  <a:pt x="298" y="964"/>
                </a:lnTo>
                <a:lnTo>
                  <a:pt x="332" y="954"/>
                </a:lnTo>
                <a:lnTo>
                  <a:pt x="365" y="944"/>
                </a:lnTo>
                <a:lnTo>
                  <a:pt x="401" y="938"/>
                </a:lnTo>
                <a:lnTo>
                  <a:pt x="474" y="925"/>
                </a:lnTo>
                <a:lnTo>
                  <a:pt x="544" y="912"/>
                </a:lnTo>
                <a:lnTo>
                  <a:pt x="560" y="908"/>
                </a:lnTo>
                <a:lnTo>
                  <a:pt x="569" y="907"/>
                </a:lnTo>
                <a:lnTo>
                  <a:pt x="584" y="902"/>
                </a:lnTo>
                <a:lnTo>
                  <a:pt x="593" y="899"/>
                </a:lnTo>
                <a:lnTo>
                  <a:pt x="599" y="894"/>
                </a:lnTo>
                <a:lnTo>
                  <a:pt x="605" y="889"/>
                </a:lnTo>
                <a:lnTo>
                  <a:pt x="617" y="881"/>
                </a:lnTo>
                <a:lnTo>
                  <a:pt x="630" y="876"/>
                </a:lnTo>
                <a:lnTo>
                  <a:pt x="642" y="869"/>
                </a:lnTo>
                <a:lnTo>
                  <a:pt x="657" y="863"/>
                </a:lnTo>
                <a:lnTo>
                  <a:pt x="678" y="854"/>
                </a:lnTo>
                <a:lnTo>
                  <a:pt x="700" y="848"/>
                </a:lnTo>
                <a:lnTo>
                  <a:pt x="721" y="843"/>
                </a:lnTo>
                <a:lnTo>
                  <a:pt x="766" y="833"/>
                </a:lnTo>
                <a:lnTo>
                  <a:pt x="776" y="818"/>
                </a:lnTo>
                <a:lnTo>
                  <a:pt x="782" y="809"/>
                </a:lnTo>
                <a:lnTo>
                  <a:pt x="788" y="802"/>
                </a:lnTo>
                <a:lnTo>
                  <a:pt x="791" y="797"/>
                </a:lnTo>
                <a:lnTo>
                  <a:pt x="791" y="795"/>
                </a:lnTo>
                <a:lnTo>
                  <a:pt x="791" y="799"/>
                </a:lnTo>
                <a:lnTo>
                  <a:pt x="788" y="802"/>
                </a:lnTo>
                <a:lnTo>
                  <a:pt x="788" y="804"/>
                </a:lnTo>
                <a:lnTo>
                  <a:pt x="791" y="804"/>
                </a:lnTo>
                <a:lnTo>
                  <a:pt x="794" y="802"/>
                </a:lnTo>
                <a:lnTo>
                  <a:pt x="800" y="797"/>
                </a:lnTo>
                <a:lnTo>
                  <a:pt x="809" y="789"/>
                </a:lnTo>
                <a:lnTo>
                  <a:pt x="821" y="777"/>
                </a:lnTo>
                <a:lnTo>
                  <a:pt x="833" y="761"/>
                </a:lnTo>
                <a:lnTo>
                  <a:pt x="843" y="745"/>
                </a:lnTo>
                <a:lnTo>
                  <a:pt x="855" y="730"/>
                </a:lnTo>
                <a:lnTo>
                  <a:pt x="870" y="715"/>
                </a:lnTo>
                <a:lnTo>
                  <a:pt x="879" y="709"/>
                </a:lnTo>
                <a:lnTo>
                  <a:pt x="882" y="704"/>
                </a:lnTo>
                <a:lnTo>
                  <a:pt x="888" y="701"/>
                </a:lnTo>
                <a:lnTo>
                  <a:pt x="888" y="699"/>
                </a:lnTo>
                <a:lnTo>
                  <a:pt x="900" y="638"/>
                </a:lnTo>
                <a:lnTo>
                  <a:pt x="912" y="578"/>
                </a:lnTo>
                <a:lnTo>
                  <a:pt x="916" y="499"/>
                </a:lnTo>
                <a:lnTo>
                  <a:pt x="922" y="422"/>
                </a:lnTo>
                <a:lnTo>
                  <a:pt x="925" y="385"/>
                </a:lnTo>
                <a:lnTo>
                  <a:pt x="934" y="347"/>
                </a:lnTo>
                <a:lnTo>
                  <a:pt x="949" y="311"/>
                </a:lnTo>
                <a:lnTo>
                  <a:pt x="967" y="277"/>
                </a:lnTo>
                <a:lnTo>
                  <a:pt x="976" y="237"/>
                </a:lnTo>
                <a:lnTo>
                  <a:pt x="979" y="198"/>
                </a:lnTo>
                <a:lnTo>
                  <a:pt x="979" y="160"/>
                </a:lnTo>
                <a:lnTo>
                  <a:pt x="979" y="124"/>
                </a:lnTo>
                <a:lnTo>
                  <a:pt x="985" y="88"/>
                </a:lnTo>
                <a:lnTo>
                  <a:pt x="995" y="56"/>
                </a:lnTo>
                <a:lnTo>
                  <a:pt x="1013" y="26"/>
                </a:lnTo>
                <a:lnTo>
                  <a:pt x="1025" y="13"/>
                </a:lnTo>
                <a:lnTo>
                  <a:pt x="1043" y="0"/>
                </a:lnTo>
                <a:lnTo>
                  <a:pt x="1058" y="7"/>
                </a:lnTo>
                <a:lnTo>
                  <a:pt x="1071" y="11"/>
                </a:lnTo>
                <a:lnTo>
                  <a:pt x="1089" y="28"/>
                </a:lnTo>
                <a:lnTo>
                  <a:pt x="1095" y="38"/>
                </a:lnTo>
                <a:lnTo>
                  <a:pt x="1101" y="49"/>
                </a:lnTo>
                <a:lnTo>
                  <a:pt x="1104" y="62"/>
                </a:lnTo>
                <a:lnTo>
                  <a:pt x="1110" y="77"/>
                </a:lnTo>
                <a:lnTo>
                  <a:pt x="1122" y="170"/>
                </a:lnTo>
                <a:lnTo>
                  <a:pt x="1135" y="260"/>
                </a:lnTo>
                <a:lnTo>
                  <a:pt x="1168" y="444"/>
                </a:lnTo>
                <a:lnTo>
                  <a:pt x="1168" y="457"/>
                </a:lnTo>
                <a:lnTo>
                  <a:pt x="1168" y="471"/>
                </a:lnTo>
                <a:lnTo>
                  <a:pt x="1168" y="488"/>
                </a:lnTo>
                <a:lnTo>
                  <a:pt x="1168" y="506"/>
                </a:lnTo>
                <a:lnTo>
                  <a:pt x="1168" y="545"/>
                </a:lnTo>
                <a:lnTo>
                  <a:pt x="1171" y="588"/>
                </a:lnTo>
                <a:lnTo>
                  <a:pt x="1174" y="630"/>
                </a:lnTo>
                <a:lnTo>
                  <a:pt x="1180" y="673"/>
                </a:lnTo>
                <a:lnTo>
                  <a:pt x="1189" y="712"/>
                </a:lnTo>
                <a:lnTo>
                  <a:pt x="1195" y="728"/>
                </a:lnTo>
                <a:lnTo>
                  <a:pt x="1201" y="745"/>
                </a:lnTo>
                <a:lnTo>
                  <a:pt x="1211" y="763"/>
                </a:lnTo>
                <a:lnTo>
                  <a:pt x="1217" y="771"/>
                </a:lnTo>
                <a:lnTo>
                  <a:pt x="1223" y="777"/>
                </a:lnTo>
                <a:lnTo>
                  <a:pt x="1232" y="782"/>
                </a:lnTo>
                <a:lnTo>
                  <a:pt x="1244" y="784"/>
                </a:lnTo>
                <a:lnTo>
                  <a:pt x="1256" y="786"/>
                </a:lnTo>
                <a:lnTo>
                  <a:pt x="1268" y="787"/>
                </a:lnTo>
                <a:lnTo>
                  <a:pt x="1290" y="807"/>
                </a:lnTo>
                <a:lnTo>
                  <a:pt x="1311" y="822"/>
                </a:lnTo>
                <a:lnTo>
                  <a:pt x="1332" y="833"/>
                </a:lnTo>
                <a:lnTo>
                  <a:pt x="1354" y="841"/>
                </a:lnTo>
                <a:lnTo>
                  <a:pt x="1375" y="846"/>
                </a:lnTo>
                <a:lnTo>
                  <a:pt x="1399" y="849"/>
                </a:lnTo>
                <a:lnTo>
                  <a:pt x="1427" y="851"/>
                </a:lnTo>
                <a:lnTo>
                  <a:pt x="1457" y="854"/>
                </a:lnTo>
                <a:lnTo>
                  <a:pt x="1478" y="864"/>
                </a:lnTo>
                <a:lnTo>
                  <a:pt x="1490" y="872"/>
                </a:lnTo>
                <a:lnTo>
                  <a:pt x="1496" y="876"/>
                </a:lnTo>
                <a:lnTo>
                  <a:pt x="1503" y="877"/>
                </a:lnTo>
                <a:lnTo>
                  <a:pt x="1500" y="877"/>
                </a:lnTo>
                <a:lnTo>
                  <a:pt x="1493" y="872"/>
                </a:lnTo>
                <a:lnTo>
                  <a:pt x="1490" y="869"/>
                </a:lnTo>
                <a:lnTo>
                  <a:pt x="1490" y="868"/>
                </a:lnTo>
                <a:lnTo>
                  <a:pt x="1493" y="866"/>
                </a:lnTo>
                <a:lnTo>
                  <a:pt x="1500" y="866"/>
                </a:lnTo>
                <a:lnTo>
                  <a:pt x="1512" y="868"/>
                </a:lnTo>
                <a:lnTo>
                  <a:pt x="1530" y="872"/>
                </a:lnTo>
                <a:lnTo>
                  <a:pt x="1554" y="879"/>
                </a:lnTo>
                <a:lnTo>
                  <a:pt x="1588" y="889"/>
                </a:lnTo>
                <a:lnTo>
                  <a:pt x="1597" y="892"/>
                </a:lnTo>
                <a:lnTo>
                  <a:pt x="1600" y="899"/>
                </a:lnTo>
                <a:lnTo>
                  <a:pt x="1606" y="905"/>
                </a:lnTo>
                <a:lnTo>
                  <a:pt x="1612" y="912"/>
                </a:lnTo>
                <a:lnTo>
                  <a:pt x="1633" y="928"/>
                </a:lnTo>
                <a:lnTo>
                  <a:pt x="1655" y="944"/>
                </a:lnTo>
                <a:lnTo>
                  <a:pt x="1673" y="954"/>
                </a:lnTo>
                <a:lnTo>
                  <a:pt x="1685" y="961"/>
                </a:lnTo>
                <a:lnTo>
                  <a:pt x="1694" y="966"/>
                </a:lnTo>
                <a:lnTo>
                  <a:pt x="1703" y="967"/>
                </a:lnTo>
                <a:lnTo>
                  <a:pt x="1712" y="969"/>
                </a:lnTo>
                <a:lnTo>
                  <a:pt x="1722" y="971"/>
                </a:lnTo>
                <a:lnTo>
                  <a:pt x="1737" y="972"/>
                </a:lnTo>
                <a:lnTo>
                  <a:pt x="1755" y="977"/>
                </a:lnTo>
                <a:lnTo>
                  <a:pt x="1776" y="984"/>
                </a:lnTo>
                <a:lnTo>
                  <a:pt x="1795" y="990"/>
                </a:lnTo>
                <a:lnTo>
                  <a:pt x="1828" y="1000"/>
                </a:lnTo>
                <a:lnTo>
                  <a:pt x="1861" y="1008"/>
                </a:lnTo>
                <a:lnTo>
                  <a:pt x="1880" y="1012"/>
                </a:lnTo>
                <a:lnTo>
                  <a:pt x="1901" y="10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imodal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šikmost a špičatost se zpravidla snadno léčí transformac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případě bimodality to však nepomůž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é měřítko centrální tendence (průměr, medián) bude špatně reprezentovat většinu d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dnocestná ANOVA ručn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ýnosy v závislosti na hnoj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87240" y="2014560"/>
          <a:ext cx="775656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2014560"/>
                    <a:ext cx="775656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ůměry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ýnos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687240" y="1978200"/>
          <a:ext cx="7756560" cy="399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978200"/>
                    <a:ext cx="7756560" cy="39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ýpočty jednocestné ANOV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685800" y="2590920"/>
                <a:ext cx="13842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2362320" y="2590920"/>
                <a:ext cx="1536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2514600" y="3200400"/>
                <a:ext cx="22226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380160" y="3583080"/>
            <a:ext cx="212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ekční fa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2800" y="4157640"/>
            <a:ext cx="3284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T = 442 - 387.2 = 5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33520" y="4800600"/>
                <a:ext cx="49654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518400" y="5834160"/>
            <a:ext cx="320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E = 54.8 - 39.2 = 15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dnocestná ANOVA výnos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04880" y="2011320"/>
          <a:ext cx="7632720" cy="399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11320"/>
                    <a:ext cx="763272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cs-CZ" sz="4400" spc="-1" strike="noStrike" baseline="-25000">
                <a:solidFill>
                  <a:srgbClr val="000000"/>
                </a:solidFill>
                <a:latin typeface="Times New Roman"/>
              </a:rPr>
              <a:t>dif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 LSD</a:t>
            </a:r>
            <a:r>
              <a:rPr b="0" lang="cs-CZ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09480" y="1905120"/>
                <a:ext cx="20606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f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667960" y="2211480"/>
            <a:ext cx="42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48120" y="1981080"/>
                <a:ext cx="12319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4328640" y="2252520"/>
            <a:ext cx="126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62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5440" y="3166920"/>
            <a:ext cx="717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SD=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tables, 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 =8, 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=0.05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if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=2.306 x 0.6245=1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zdíly mezi kontrolou a ošetření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609480" y="2133720"/>
          <a:ext cx="7680600" cy="378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76806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ky jako statistický fak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ůzná 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ůzné genoty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ůzné růstové ko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k GLIM počítá ANOV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1400" y="1643040"/>
            <a:ext cx="3213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= ß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ß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62120" y="2286000"/>
                <a:ext cx="16128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838080" y="2971800"/>
                <a:ext cx="48135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900000" y="3657600"/>
                <a:ext cx="1870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821520" y="4462560"/>
            <a:ext cx="7618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lony“ v GLIMU jsou pro ANOVU ve skutečnosti rozdí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zi průmě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2300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68240" y="195120"/>
            <a:ext cx="422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5080" y="673200"/>
            <a:ext cx="2836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77600" y="611280"/>
            <a:ext cx="2836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aktoriální AN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uží ke zjišťování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akcí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zi fak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kce se vyskytuje tehdy, jestliže způsob, kterým se závisle proměnná chová ve vztahu ke změně úrovně jednoho faktoru závisí na úrovni jiného faktoru (např. výnos v pouštním prostředí závisí na interakci mezi úrovní N a zavlažování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del pro faktoriální ANOV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-20520" y="2590920"/>
                <a:ext cx="9275760" cy="15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ůst housenek (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690480" y="2274840"/>
          <a:ext cx="782028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2274840"/>
                    <a:ext cx="782028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ýpočty faktoriální ANOV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62120" y="1676520"/>
                <a:ext cx="28321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838080" y="2590920"/>
                <a:ext cx="27561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A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838080" y="3505320"/>
                <a:ext cx="27561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B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838080" y="4419720"/>
                <a:ext cx="42800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AB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114800" y="1828800"/>
                <a:ext cx="39751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AB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S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S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4099680" y="2786040"/>
            <a:ext cx="392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SE = SST - SSA - SSB - SS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-matice interakc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684360" y="2019240"/>
          <a:ext cx="7788240" cy="404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19240"/>
                    <a:ext cx="778824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abulka dvoufaktoriální ANOV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687240" y="2014560"/>
          <a:ext cx="7774200" cy="40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2014560"/>
                    <a:ext cx="7774200" cy="40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voufaktoriální ANOVA růstu housen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758880" y="2011320"/>
          <a:ext cx="7629480" cy="40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2011320"/>
                    <a:ext cx="762948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aktoriální ANOVA v GLI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33520" y="2362320"/>
                <a:ext cx="8318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rese a ANOVA nejsou rigidně odlišné met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stínění jako faktor a jako kovari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COVA: kombinace regrese a 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např. produkce kyslíku jako závisle proměnná, teplota jako kovariát a intenzita osvětlení jako fak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rovnání úrovní ošetř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rovn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posteriori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rovn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ntra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yvar růst rost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šetření, každé 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5% defoliace sousedních rost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50% defoliace sousedních rost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erytí kořenů sousedních rostlin do hloubky 5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ontrola (sousední rostliny neovlivně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erytí kořenů sousedních rostlin do hloubky 1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ulka kontras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304920" y="1447920"/>
          <a:ext cx="8534160" cy="5073480"/>
        </p:xfrm>
        <a:graphic>
          <a:graphicData uri="http://schemas.openxmlformats.org/drawingml/2006/table">
            <a:tbl>
              <a:tblPr/>
              <a:tblGrid>
                <a:gridCol w="1371600"/>
                <a:gridCol w="1218960"/>
                <a:gridCol w="1143000"/>
                <a:gridCol w="1143000"/>
                <a:gridCol w="1219320"/>
                <a:gridCol w="1143000"/>
                <a:gridCol w="12952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 defolia-ce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defolia-ce 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rytí 5 cm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tro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rytí 10 cm 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čet řád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2) vs. (3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2,3,5) vs. 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čin sloupc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VA tabulka kontras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714240" y="1976400"/>
          <a:ext cx="7704360" cy="38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976400"/>
                    <a:ext cx="770436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ní a náhodné efek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oposud jsem probírali faktoriální ANOVY s fixními efekty. Fixní efekty jsou pod kontrolou experimentátora, a nebo jsou, přinejmenším, opakovateln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 fixní efekty testujeme rozdíly mezi úrovněmi fakt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 náhodné efekty nemá smysl testovat rozdíly v úrovních faktoru, ale má smysl testovat procentický příspěvek náhodného faktoru k celkové variabilitě. Představují často dolní úroveň v hierarchické ANOVě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ká ANOVA se dvěma úrovně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Yvar stupeň parazitace house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yla měřena na šesti stromech (faktor B) na třech lokalitách (faktor 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tlivé stromy na každé lokalitě nemají nic společného a jsou seskupeny (nested) v rámci každé lok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jímá nás hlavní efekt lokality (A) a interakce stromů se svojí lokalitou (A.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motný efekt stromu 1, 2, …, 6 na každé lokalitě je nezajímavý, protože strom 1 na lokalitě 1 nemá nic společného se stromem 1 na lokalitě 2 ap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Hierarchická ANOVA se dvěma úrovněmi: zápis v GLI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fit a/b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fit a + a.b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ká ANOVA se třemi úrovně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var obsah glykogenu v játrech kr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ři úrovně ošetření byly aplikovány celkem šesti krysám (tj. každá úroveň dvě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yly udělány tři vzorky z jater každé kry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 každého vzorku byl odečítán obsah glykogenu dvakr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ká ANOVA se třemi úrovně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lkem bylo k dispozici 36 záznamů, z toho 6 byly pseudoreplikace v rámci každé kry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e skutečnosti byly jen dvě opakování pro každou úroveň faktoru, tedy df = 1 pro každou úroveň a df = 3 pro celou ANO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ká ANOVA se třemi úrovně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pravděpodobné, že se variance bude lišit na každé úrovni hierarchického design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kované záznamy z každého vzorku jater díky použité detekční metod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zorky z každých jater díky heterogenitě distribuce glykogenu v játrech každé kry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ysy mezi sebou díky rozdílnému věku, pohlaví, genotypu ap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stické princi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ování hypoté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ílem ANOVA v GLIMU je odhad průměrů a standardních chyb rozdílů mezi průmě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e o rozšíření metody testování rozdílů mezi dvěma průměry pomocí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ů (zjistíme rozdíl mezi dvěma průměry, vydělíme ho standardní chybou rozdílu a výslednou statistiku srovnáme s hodnotou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erarchická AN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968400" y="1978200"/>
          <a:ext cx="7761240" cy="469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1978200"/>
                    <a:ext cx="776124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ANOVA pro krysy bez pseudoreplikac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685800" y="2019240"/>
          <a:ext cx="7785000" cy="404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19240"/>
                    <a:ext cx="778500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aktory – složitější příkl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1752480"/>
            <a:ext cx="1676160" cy="4800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19520" y="1752480"/>
            <a:ext cx="1676160" cy="4800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876920" y="1752480"/>
            <a:ext cx="1676160" cy="4800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10280" y="1752480"/>
            <a:ext cx="1676520" cy="4800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66680" y="2438280"/>
            <a:ext cx="111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lo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124080" y="2438280"/>
            <a:ext cx="111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lo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257800" y="2438280"/>
            <a:ext cx="111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lo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7315200" y="2514600"/>
            <a:ext cx="111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lo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cxnSp>
        <p:nvCxnSpPr>
          <p:cNvPr id="529" name=""/>
          <p:cNvCxnSpPr>
            <a:stCxn id="522" idx="1"/>
            <a:endCxn id="522" idx="3"/>
          </p:cNvCxnSpPr>
          <p:nvPr/>
        </p:nvCxnSpPr>
        <p:spPr>
          <a:xfrm>
            <a:off x="2819520" y="4152600"/>
            <a:ext cx="167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0" name=""/>
          <p:cNvSpPr txBox="1"/>
          <p:nvPr/>
        </p:nvSpPr>
        <p:spPr>
          <a:xfrm>
            <a:off x="2895480" y="2666880"/>
            <a:ext cx="1447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ávlah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2895480" y="464832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ávlah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3352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2590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5105520" y="2057400"/>
            <a:ext cx="12571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Řídký poros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5029200" y="2819520"/>
            <a:ext cx="1390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ředně hustý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105520" y="3657600"/>
            <a:ext cx="12762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ustý poros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7" name=""/>
          <p:cNvSpPr/>
          <p:nvPr/>
        </p:nvSpPr>
        <p:spPr>
          <a:xfrm>
            <a:off x="4876920" y="41148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10280" y="2590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 rot="11400">
            <a:off x="7086600" y="3962520"/>
            <a:ext cx="1522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ávk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nojení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15328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086600" y="1981080"/>
            <a:ext cx="4665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ízká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7620120" y="2209680"/>
            <a:ext cx="4953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řední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153280" y="1981080"/>
            <a:ext cx="5050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ysoká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lit-plot: závla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041480" y="2155680"/>
          <a:ext cx="7754760" cy="43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2155680"/>
                    <a:ext cx="775476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lit-plot: stanovišt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689040" y="1974960"/>
          <a:ext cx="7751520" cy="44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74960"/>
                    <a:ext cx="775152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lit-plot: hnoj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758880" y="1517760"/>
          <a:ext cx="7754760" cy="579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1517760"/>
                    <a:ext cx="7754760" cy="57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stické princi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rovnání průměrů pomocí rozptyl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066680" y="1905120"/>
            <a:ext cx="7010640" cy="3581280"/>
            <a:chOff x="1066680" y="1905120"/>
            <a:chExt cx="7010640" cy="3581280"/>
          </a:xfrm>
        </p:grpSpPr>
        <p:sp>
          <p:nvSpPr>
            <p:cNvPr id="64" name=""/>
            <p:cNvSpPr/>
            <p:nvPr/>
          </p:nvSpPr>
          <p:spPr>
            <a:xfrm>
              <a:off x="1066680" y="1905120"/>
              <a:ext cx="0" cy="358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66680" y="5486400"/>
              <a:ext cx="701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066680" y="3352680"/>
            <a:ext cx="678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590920" y="289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2133720"/>
            <a:ext cx="3200400" cy="2971800"/>
            <a:chOff x="1371600" y="2133720"/>
            <a:chExt cx="3200400" cy="2971800"/>
          </a:xfrm>
        </p:grpSpPr>
        <p:sp>
          <p:nvSpPr>
            <p:cNvPr id="69" name=""/>
            <p:cNvSpPr/>
            <p:nvPr/>
          </p:nvSpPr>
          <p:spPr>
            <a:xfrm flipV="1">
              <a:off x="1371600" y="32000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600200" y="3123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828800" y="335232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7400" y="2743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86000" y="3352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438280" y="21337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43200" y="3123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2408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276720" y="2971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429000" y="22093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81280" y="33526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733920" y="3048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886200" y="32000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335268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191120" y="2438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343400" y="327636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52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335268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514760" y="3321000"/>
                <a:ext cx="12564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507960" y="301320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33520" y="2959200"/>
                <a:ext cx="4683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601640" y="1643040"/>
            <a:ext cx="5330880" cy="1784520"/>
            <a:chOff x="1601640" y="1643040"/>
            <a:chExt cx="5330880" cy="1784520"/>
          </a:xfrm>
        </p:grpSpPr>
        <p:sp>
          <p:nvSpPr>
            <p:cNvPr id="91" name=""/>
            <p:cNvSpPr/>
            <p:nvPr/>
          </p:nvSpPr>
          <p:spPr>
            <a:xfrm>
              <a:off x="1601640" y="3049560"/>
              <a:ext cx="73080" cy="730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8840" y="2668680"/>
              <a:ext cx="73080" cy="730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40080" y="2135160"/>
              <a:ext cx="73080" cy="730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6040" y="2897280"/>
              <a:ext cx="73080" cy="730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97280" y="3354480"/>
              <a:ext cx="73080" cy="730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1840" y="2973240"/>
              <a:ext cx="73080" cy="730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4480" y="2135160"/>
              <a:ext cx="73080" cy="730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9040" y="2973240"/>
              <a:ext cx="73080" cy="730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68880" y="3201840"/>
              <a:ext cx="73080" cy="730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6240" y="2363760"/>
              <a:ext cx="73080" cy="730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3680" y="164304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vlažová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9440" y="1830240"/>
              <a:ext cx="73080" cy="73080"/>
            </a:xfrm>
            <a:prstGeom prst="octagon">
              <a:avLst>
                <a:gd name="adj" fmla="val 2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939200" y="4538520"/>
            <a:ext cx="72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97080" y="1947960"/>
            <a:ext cx="5711760" cy="3232080"/>
            <a:chOff x="1297080" y="1947960"/>
            <a:chExt cx="5711760" cy="3232080"/>
          </a:xfrm>
        </p:grpSpPr>
        <p:sp>
          <p:nvSpPr>
            <p:cNvPr id="105" name=""/>
            <p:cNvSpPr/>
            <p:nvPr/>
          </p:nvSpPr>
          <p:spPr>
            <a:xfrm>
              <a:off x="1297080" y="3125880"/>
              <a:ext cx="149040" cy="14904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54280" y="5030640"/>
              <a:ext cx="149040" cy="14940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11480" y="4116240"/>
              <a:ext cx="149040" cy="14940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8680" y="2973240"/>
              <a:ext cx="149040" cy="14940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9560" y="3963960"/>
              <a:ext cx="149400" cy="14940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6760" y="4344840"/>
              <a:ext cx="149400" cy="14940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11680" y="3049560"/>
              <a:ext cx="149040" cy="14940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63960" y="4649760"/>
              <a:ext cx="149400" cy="14940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97480" y="3811680"/>
              <a:ext cx="149040" cy="14904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40080" y="5030640"/>
              <a:ext cx="149040" cy="14940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9440" y="2135160"/>
              <a:ext cx="149400" cy="149400"/>
            </a:xfrm>
            <a:prstGeom prst="star5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83320" y="1947960"/>
              <a:ext cx="1995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zavlažová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stické princi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rovnání průměrů pomocí rozptyl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1981080"/>
            <a:ext cx="0" cy="358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556272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7080" y="3125880"/>
            <a:ext cx="149040" cy="14904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1640" y="3049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4280" y="5030640"/>
            <a:ext cx="14904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8840" y="2668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11480" y="4116240"/>
            <a:ext cx="14904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40080" y="21351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6040" y="28972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8680" y="2973240"/>
            <a:ext cx="14904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7280" y="33544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560" y="396396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1840" y="297324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4480" y="21351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6760" y="43448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9040" y="297324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11680" y="3049560"/>
            <a:ext cx="14904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3960" y="464976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8880" y="320184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7480" y="3811680"/>
            <a:ext cx="149040" cy="14904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40080" y="5030640"/>
            <a:ext cx="14904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7960" y="301320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6240" y="23637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3320" y="1643040"/>
            <a:ext cx="1995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vlažová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zavlažová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9440" y="183024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9440" y="213516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39200" y="4538520"/>
            <a:ext cx="72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743200"/>
            <a:ext cx="5830920" cy="1440"/>
          </a:xfrm>
          <a:custGeom>
            <a:avLst/>
            <a:gdLst/>
            <a:ahLst/>
            <a:rect l="l" t="t" r="r" b="b"/>
            <a:pathLst>
              <a:path w="3673" h="1">
                <a:moveTo>
                  <a:pt x="0" y="0"/>
                </a:moveTo>
                <a:lnTo>
                  <a:pt x="3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26708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60020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2209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514600" y="2742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2209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00400" y="274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657600" y="274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2743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95480" y="2742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3276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28800" y="42667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14600" y="42667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581280" y="42670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038480" y="4266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4280" y="247968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01560" y="2590920"/>
                <a:ext cx="3492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  <m:r>
                          <m:t xml:space="preserve">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76440" y="403848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88960" y="4114800"/>
                <a:ext cx="3762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  <m:r>
                          <m:t xml:space="preserve">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stické princi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áp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ud by se od sebe průměry nelišily, jaký by byl vztah mezi SST a SSE? (která hodnota by byla větší, či by byly obě stejné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ud se od sebe průměry liší, jaký je vztah mezi SST a S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stické princi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60948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352680"/>
            <a:ext cx="556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36576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617220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1828800"/>
            <a:ext cx="556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8840" y="20588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3760" y="20588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2360" y="20588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8160" y="20588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560" y="20588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6760" y="20588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4680" y="2058840"/>
            <a:ext cx="14904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20960" y="20588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9240" y="20588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92560" y="20588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21160" y="20588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5360" y="20588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49760" y="20588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3960" y="20588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4160" y="20588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9080" y="2058840"/>
            <a:ext cx="14904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7680" y="2058840"/>
            <a:ext cx="14904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6280" y="2058840"/>
            <a:ext cx="14904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4880" y="2058840"/>
            <a:ext cx="14904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9440" y="20588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884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376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9236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2096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56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816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676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536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396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256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748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4976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468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5924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416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276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768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224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3084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9440" y="152568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9112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568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588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13372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43828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66688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89548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12408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35268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58128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80988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03848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26708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49568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72428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02920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33412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63868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94360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17220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40080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62940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934320" y="182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70080" y="156528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219320" y="1523880"/>
                <a:ext cx="4683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221148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8288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4008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6868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419112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464832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728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588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5448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308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1168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028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6888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748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608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468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328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56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6416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9276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2136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9960" y="4192560"/>
            <a:ext cx="73080" cy="73080"/>
          </a:xfrm>
          <a:prstGeom prst="octagon">
            <a:avLst>
              <a:gd name="adj" fmla="val 2928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6396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3536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0676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816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56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2096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9236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6376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516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0656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7364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4504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644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784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56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0696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836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4976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2116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92560" y="4573440"/>
            <a:ext cx="149400" cy="149400"/>
          </a:xfrm>
          <a:prstGeom prst="star5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295280" y="3962520"/>
                <a:ext cx="3492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  <m:r>
                          <m:t xml:space="preserve">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95280" y="4495680"/>
                <a:ext cx="3762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  <m:r>
                          <m:t xml:space="preserve">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5396040" y="525600"/>
            <a:ext cx="199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T je velk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1520" y="5259240"/>
            <a:ext cx="219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E je nulov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8:47Z</dcterms:created>
  <dc:creator>Vojtěch Jarošík</dc:creator>
  <dc:description/>
  <dc:language>en-US</dc:language>
  <cp:lastModifiedBy>Vojtěch Jarošík</cp:lastModifiedBy>
  <dcterms:modified xsi:type="dcterms:W3CDTF">2002-12-15T19:21:04Z</dcterms:modified>
  <cp:revision>9</cp:revision>
  <dc:subject/>
  <dc:title>Analýza rozptylu</dc:title>
</cp:coreProperties>
</file>