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B7E-C06C-422E-AB55-CB90B42F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C45-73A7-49E8-BFDE-5C201562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53B-44DD-462E-8E3F-731F3E88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103-A550-47F9-8A64-96BF0222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70A-854A-41A9-AB34-5D0E25CB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06A-8191-443A-9A2D-2B61373E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BA7-3363-4C4D-B639-648B27C3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109-5852-4107-957F-FFD1B9A8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15D-A00C-4C15-B4E9-BB85DAB5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0E0-A159-4D51-9D0A-B5D2E75C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6E0-39C1-46DD-9B62-47284BD8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42F-412E-4E09-BA01-9F9FEBE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F089-1E51-49AF-8858-B0AF16D4E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plorace da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statistika pomocí tabelárních funkc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3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ůměr a rozp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cent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nimum a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k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rovnání rozptyl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ážená statistika (tab wi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ontingenční tabulky (tab f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83772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kládání sumárních tabulek (tab i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abulky s více vstupy (tpr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zložení četností (tab f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kládání četností (tab u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istogra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12:26:11Z</dcterms:created>
  <dc:creator>Vojtěch Jarošík</dc:creator>
  <dc:description/>
  <dc:language>en-US</dc:language>
  <cp:lastModifiedBy>Vojtěch Jarošík</cp:lastModifiedBy>
  <dcterms:modified xsi:type="dcterms:W3CDTF">2002-11-03T12:26:25Z</dcterms:modified>
  <cp:revision>1</cp:revision>
  <dc:subject/>
  <dc:title>Explorace dat </dc:title>
</cp:coreProperties>
</file>