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AC0-CC15-4578-B49F-BC177201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02F-A47D-45B1-AD14-E101D026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D5C-707B-4C6F-9CF7-60F29B41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577-52F0-4B35-B4BE-2D3E188E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6BC-74AF-4643-B257-C73EF65A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374-9842-4012-B743-B0B2DE26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434-01C7-44BF-9095-B87A579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93D-C407-4C8C-993A-76811770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4BC-F88A-425B-9ACF-F8C9B15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75C-EEDB-4983-8214-3B4F3CE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FF1-EA47-450B-B0A0-1DC4132D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540-EC99-4960-9681-7BD6E8B0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8EAD-CB7B-4A9F-A38F-7CCABDCF9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plorace da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rafická analý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ziduály jsou nelineár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0" y="2362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56386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3320" y="316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- %f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102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3200400"/>
            <a:ext cx="3504960" cy="2133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80988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ozložení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:/cvičení/resplot.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verage = účin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odnoty yvar s největšími účinky často leží při extrémních hodnotách vysvětlující proměnné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činek se zvyšuje, jsou-li vzdálené od ostatních hodno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ákeřným faktem je skutečnost, že nejúčinnější hodnoty často mívají nejmenší rezidu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ěření účin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84400" y="1616040"/>
                <a:ext cx="2792520" cy="22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/>
                                </m:limUp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limUp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lim>
                                        <m:r>
                                          <m:t xml:space="preserve">−</m:t>
                                        </m:r>
                                      </m:lim>
                                    </m:limUp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13040" y="4073400"/>
                <a:ext cx="1500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andardizované rezidu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56000" y="2077920"/>
                <a:ext cx="36511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28800" y="3243240"/>
                <a:ext cx="56386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´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okovy vzdále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324160" y="1352520"/>
                <a:ext cx="3659040" cy="21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</m:sSub>
                                  </m:e>
                                </m:rad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r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62320" y="3657600"/>
                <a:ext cx="35812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čely grafické analý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brazit trendy vysvětlované proměnné ve vztahu k vysvětlujícím proměnný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ážit trans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at odlehlé hodno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jít vstupní chy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stovat předpoklady mode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afická analýza před statistickými t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: hustota průduchů vs. tloušťka listové pokož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 = hustota průduch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x = tloušťka pokož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 = typ půdy (1, 2,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afická analýza po statistické analý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rola reziduá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rola rozložení chy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činek (lever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zidu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ca r=%yv-%fv$: nestandardizované reziduá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ziduály by měly být vyneseny pro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řadí měření (čas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%f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ysvětlujícím proměnný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ziduály mají vypadat jako hvězdy na oblo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2362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56386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3320" y="316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- %f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102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048120"/>
            <a:ext cx="419112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380988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ziduály se rozebíhají ve tvaru ležatéh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0" y="2362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56386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3320" y="316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- %f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102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125600">
            <a:off x="3807360" y="1979640"/>
            <a:ext cx="1903320" cy="3581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80988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ziduály rostou s hodnotou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86000" y="2362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56386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3320" y="316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 - %f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1024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20526600">
            <a:off x="2742840" y="3200040"/>
            <a:ext cx="41911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80988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4:00:28Z</dcterms:created>
  <dc:creator>Vojtěch Jarošík</dc:creator>
  <dc:description/>
  <dc:language>en-US</dc:language>
  <cp:lastModifiedBy>Vojtěch Jarošík</cp:lastModifiedBy>
  <dcterms:modified xsi:type="dcterms:W3CDTF">2002-10-20T18:36:34Z</dcterms:modified>
  <cp:revision>6</cp:revision>
  <dc:subject/>
  <dc:title>Explorace dat </dc:title>
</cp:coreProperties>
</file>