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-360"/>
            <a:ext cx="2889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91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940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329400"/>
            <a:ext cx="2889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903B-ABB2-4330-A6BC-932B06F5F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488960" y="736560"/>
            <a:ext cx="3691080" cy="2768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8480" y="3733920"/>
            <a:ext cx="4891320" cy="53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Příkaz $ca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$ca 2+2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$ca %log(1)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Příkaz $cu$ uvnitř příkazu $ca$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$units 10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$ca x=%cu(1)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$look x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$ca x=450+%cu(50)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$look x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Výpočet sumy a sumy čtverců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$assign y=3,6,8,3,3,5,7,8,5,4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Sum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$ca %cu(y)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$ca %a=%cu(y)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$look %a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Výpočet sumy čtverců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$ca y2=y*y$   </a:t>
            </a:r>
            <a:r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(*=ALT+4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$ca %b=%cu(y2)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$look %b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Výpočet rozptylu ruční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$ca %v=(%cu(y**2)-%cu(y)**2/%nu)/(%nu-1)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$look %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Výpočet rozptylu počítačový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$tab the y mean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$ca %m=5.2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$ca %v=%cu((y-%m)**2)/(%nu-1)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$look %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91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units 9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data x y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dinput 7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:/cviceni/glex37.d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91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units 72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data vynos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dinput 7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:/cviceni/glex19.d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ca b=%gl(4,18)$ (2 závlaha)x(3 porost)x(3 hnoj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ca z=%gl(2,9)$ (3 porost)x(3 hnoj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ca p=%gl(3,3)$ (3 hnoj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ca h=%gl(3,1)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factor b 4 z 2 p 3 h 3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look vynos b z p h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tprint vynos;z;p;h;b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91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units 31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data v g h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dinput 7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:/cviceni/glex16.d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macro yvar v $endmac 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macro model g+h $endmac 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input %plc boxcox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use boxcox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DIN?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INCREMENT 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IN 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jde třetí odmocn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F42-B3A4-4586-9315-18BB2D62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1E7-06D8-42FC-B36B-28582AE3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578B-0A85-4856-8081-0FE75B55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972-886B-4151-9028-A50510A3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8C6-68F6-4957-B840-DB1A41D7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2DEF-35D9-444F-BFE9-0B791DF1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D1CE-D67D-4EB0-A36D-1110312B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EB8-E174-4D73-9FB8-3A6155FA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96A9-FB77-46A9-A136-39F33156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910-D046-4182-B75B-1620E363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3DE-7400-49D2-9DF9-3865D3F4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39AC-B1A7-402D-A82A-E0B29E3A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7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7960" indent="-2275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7960" indent="-2275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7960" indent="-2275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4715-2873-4BC4-8E7D-FE5410467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ři součásti GLI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ástroj statistického model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ástroj explorace d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gramovací jazyk a kalkulá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LIM jako programovací jazyk a kalkulá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LIM jako kalkulač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stup d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k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ogické operá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LIM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LIM jako kalkulač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$ca(lculate)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$cu(mulate)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139760" y="3429000"/>
                <a:ext cx="564840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</m:e>
                                </m:nary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t xml:space="preserve">−</m:t>
                            </m:r>
                          </m:lim>
                        </m:limUp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stup 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$as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$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ak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klady: světlo (nízké, střední, intenzivní), barva (černá, žlutá, bílá, červená), pohlaví (samec, sam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$units 12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$factor svetlo 3 barva 4 pohlavi 2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$gl = generate levels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$gl(maximum, opakování)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aktory – složitější příkl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752480"/>
            <a:ext cx="1676160" cy="4800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1752480"/>
            <a:ext cx="1676160" cy="4800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1752480"/>
            <a:ext cx="1676160" cy="4800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10280" y="1752480"/>
            <a:ext cx="1676520" cy="4800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66680" y="2438280"/>
            <a:ext cx="111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lo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24080" y="2438280"/>
            <a:ext cx="111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lo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257800" y="2438280"/>
            <a:ext cx="111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lo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315200" y="2514600"/>
            <a:ext cx="111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lo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cxnSp>
        <p:nvCxnSpPr>
          <p:cNvPr id="68" name=""/>
          <p:cNvCxnSpPr>
            <a:stCxn id="61" idx="1"/>
            <a:endCxn id="61" idx="3"/>
          </p:cNvCxnSpPr>
          <p:nvPr/>
        </p:nvCxnSpPr>
        <p:spPr>
          <a:xfrm>
            <a:off x="2819520" y="4152600"/>
            <a:ext cx="167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" name=""/>
          <p:cNvSpPr txBox="1"/>
          <p:nvPr/>
        </p:nvSpPr>
        <p:spPr>
          <a:xfrm>
            <a:off x="2895480" y="2666880"/>
            <a:ext cx="1447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Závlah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95480" y="4648320"/>
            <a:ext cx="137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závlah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3352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2590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105520" y="2057400"/>
            <a:ext cx="12571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Řídký porost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29200" y="2819520"/>
            <a:ext cx="1390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ředně hustý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105520" y="3657600"/>
            <a:ext cx="12762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ustý porost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41148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2590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 rot="11400">
            <a:off x="7086600" y="3962520"/>
            <a:ext cx="1522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ávk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nojení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762012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5328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086600" y="1981080"/>
            <a:ext cx="4665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ízká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20120" y="2209680"/>
            <a:ext cx="49536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řední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153280" y="1981080"/>
            <a:ext cx="50508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ysoká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ogické operá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09480" y="1371600"/>
          <a:ext cx="7772400" cy="5175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zn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v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==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rov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/=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ně ne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&lt;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íce ne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&gt;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ně než nebo rov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&lt;=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ětší než nebo rov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&gt;=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&amp;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b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?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LIM.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$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:/glim.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ak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lastní mak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:/cvičení/resplot.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nihovní mak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8:55:10Z</dcterms:created>
  <dc:creator>Vojtěch Jarošík</dc:creator>
  <dc:description/>
  <dc:language>en-US</dc:language>
  <cp:lastModifiedBy>Vojtěch Jarošík</cp:lastModifiedBy>
  <dcterms:modified xsi:type="dcterms:W3CDTF">2002-10-12T19:59:31Z</dcterms:modified>
  <cp:revision>5</cp:revision>
  <dc:subject/>
  <dc:title>GLIM jako programovací jazyk</dc:title>
</cp:coreProperties>
</file>