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451-4294-423F-B56D-333C8658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DC8-EDB8-453C-B11B-4917F35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9F8-4BD2-469C-B8D2-82FD64AC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E26-D161-4431-BD62-BA53EDB8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377-D389-450A-8C40-98C9CD6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28B-DF08-4E1E-8A04-0279CA92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317-596B-4854-AB40-6642F0C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665-00C2-4A25-ACDE-974E0AA5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6E1-6CAA-46C9-84FF-3BD7DDF5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D36-D1E3-43BB-9F4F-2AA8196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E94-AB73-47F7-9C0B-DF5BB2BC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ADE-32B9-4792-A53A-3A35F5A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B78A-46DD-45E5-BF9F-741FBCFC3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itika mode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vidla jen tak mezi ná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zidu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lepšení mode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 volit trans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klad: dřevorubecká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ox-Coxova trans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disp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ovnání různých model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2404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e proměn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jovací funk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chyl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9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9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7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n H, ln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0,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7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6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x-Coxova transform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aritmick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vrácená hodno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há odmocn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řetí odmocn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verdisp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i Poissonově či binomickém rozložení chy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zniká proto, že nebyla měřena důležitá vysvětlující proměn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ziduální odchylka je nafoukl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vidla jen tak mezi ná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šechny modely jsou špat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ěkteré modely jsou lepší než ji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kdy si nejsme jisti, že model je správ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ím je model jednodušší, tím je lep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zidu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rubé reziduály: $ca r=%yv-%fv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izované: $disp r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rubé a standardizované reziduály jsou stejné jen pro normální rozlož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ziduály rutinně vynáším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ti %f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světlujícím proměnný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řadí d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m normálním odchylk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ziduály se často rozebíhají ve tvaru ležatéh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0" y="2362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3320" y="316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- %f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02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125600">
            <a:off x="3807360" y="1979640"/>
            <a:ext cx="1903320" cy="3581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80988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lepšení mode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měna spojovací funk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měna struktury chy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ž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k volit transform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tantní rozptyl chy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řibližně normální rozlož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ární vztah mezi závisle a vysvětlujícími proměnný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duchá vědecká interpret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řevorubecká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objem dřeva (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světlující proměnné: výška stromu (H), obvod v prsní výšce (G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álec: V=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/3)*(G/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=(1/1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G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ylindr: V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G/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=(1/4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G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og válec: ln V= ln (1/1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+ 2 ln G+ln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og cylindr: ln V= ln (1/4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+ 2 ln G+ln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ternativní struktura mode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ransformací závisle proměn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měnou spojovací funkce (link f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yčejně budeme preferovat postup, který povede k menší odchylce (nejlepší model bude mít minimální residuální odchylk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20:29:17Z</dcterms:created>
  <dc:creator>Vojtěch Jarošík</dc:creator>
  <dc:description/>
  <dc:language>en-US</dc:language>
  <cp:lastModifiedBy>Vojtěch Jarošík</cp:lastModifiedBy>
  <dcterms:modified xsi:type="dcterms:W3CDTF">2002-10-22T19:15:25Z</dcterms:modified>
  <cp:revision>6</cp:revision>
  <dc:subject/>
  <dc:title>Kritika modelu</dc:title>
</cp:coreProperties>
</file>