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ED3-D710-4EA7-9E80-0633327E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319-F42F-44D8-8A1E-C07EFBEE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A4B-405B-4DB1-80F7-C83AB7A1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A47-FFCB-4919-8F35-B15BC63B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C48-443E-42CB-9DAA-19FB5424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BB3-AD44-4F28-80E0-05508671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9D0-DC64-4FA9-BE11-56834B65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D5C-4E3E-48F1-A143-C89FE727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7C8-F544-4F07-9FBE-74D797AE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6CF-7D8E-412F-8F73-ECC8EE90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85E-9E8D-437D-BAA3-C097A161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340-AF4B-4DF2-9542-AFD35535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D65E-44DA-4454-86F1-0386EAC1F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issonovo rozložení chy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vláštnosti Poissonova rozložení proti rozložení normální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tože Poissonovo rozložení je jednoparametrické, reziduální odchylka (scale deviance) po fitování modelu, pokud je rozložení skutečně Poissonovo, by měla být rovna jedné. Pokud není, je rozložení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verdisperse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standardní chyby fitovaných parametrů se musí upravit tak, aby Poissonovu rozložení odpovíd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vláštnosti Poissonova rozložení proti rozložení normální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dchylky od fitovaných parametrů odpovídají nikoli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rozložení či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rozložení, ale (přibližně) </a:t>
            </a:r>
            <a:r>
              <a:rPr b="0" i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ozložen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estování parametrů provádíme pomocí odstraňovacích testů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eletion te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z maximálního modelu. Jestliže odstranění parametru způsobí odchylku větší než odpovídá hodnotě </a:t>
            </a:r>
            <a:r>
              <a:rPr b="0" i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pro daný počet stupňů volnosti, parametr necháváme v model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Jak fitujeme model s Poissonovým rozložení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3123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error p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ypotézy testujeme pomocí </a:t>
            </a:r>
            <a:r>
              <a:rPr b="0" i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ozlož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roluje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verdisp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na čet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var jsou počty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nts,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slimáků pod čtyřiceti dlaždicemi. Dlaždice byly náhodně rozmístěny po 40 na dvou loukách (fakt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jímá nás, zda se počty slimáků na loukách liš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dy používáme Poissonovo rozlož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esty rozdílů v četnostech mezi ošetřeními, které jsou analogické ANOVA pro normální rozložení (viz předchozí příkl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srovnání pozorovaných a teoreticky očekávaných četností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test, </a:t>
            </a:r>
            <a:r>
              <a:rPr b="0" i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t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esty asociace: kontingenční tabulky, Fisherův test 2x2 kontingenční tabulky s malými četnost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ložené kontingenční tabul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rovnání pozorovaných a očekávaných četností: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G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čekávané četnosti jsou 3: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 100 pozorovaných živočichů mělo 69 červené a 31 bílé oči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69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3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čekávané četnosti jsou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měry pozorovaných a očekávaných četností jsou dány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og věrohodnost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267080" y="3124080"/>
                <a:ext cx="2398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371600" y="4624560"/>
                <a:ext cx="632448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rovnání pozorovaných a očekávaných četností: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G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stová statistik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 dána jak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2 ln 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má asymptoticky </a:t>
            </a:r>
            <a:r>
              <a:rPr b="0" i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ozložení s jedním stupněm volnos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6720" y="4038480"/>
                <a:ext cx="70419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2 x 2 kontingenční tabul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981080"/>
          <a:ext cx="7772400" cy="4157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álka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álka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tom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přítom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 řád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tom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přítom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 sloupc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cs-CZ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1905120"/>
                <a:ext cx="27432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O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O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715000" y="1981080"/>
                <a:ext cx="20685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Ř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elke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532440" y="3276720"/>
            <a:ext cx="75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tistika vzorku je jen přibližně rozložena jako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f = 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3962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tistika se velmi obtížně zobecňuje na složitější příp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čítání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cs-CZ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test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44640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-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-O)</a:t>
                      </a:r>
                      <a:r>
                        <a:rPr b="0" i="1" lang="cs-CZ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086600" y="1981080"/>
                <a:ext cx="11430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O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486400" y="5334120"/>
                <a:ext cx="1219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O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O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y vysvětlovaných 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inuální: váha, výška, délka, teplota, růstová rychlost a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iskrétní (celá čísla): počet uhynulých živočichů, počet větví rostliny, počet dní s výskytem mrazu, počet hmyzu na listu (nula je často vysvětlovanou proměnno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-test: krok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</a:t>
                      </a: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</a:t>
                      </a: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6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3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78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21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4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6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6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</a:t>
                      </a: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7,9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-test: krok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981080"/>
          <a:ext cx="7772400" cy="43736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 řádek a sloupc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</a:t>
                      </a: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</a:t>
                      </a: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4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,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8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3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,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9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3,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</a:t>
                      </a:r>
                      <a:r>
                        <a:rPr b="0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7,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-test: krok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11 x 4,7095 = 522,76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n je celková suma četnost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 = 2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buně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elke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 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77,968 – 897,29 + 522,76 = 3,4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 = 2 x 3,438 = 6,8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 x 2 kontingenční tabulky v GLI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isherův exaktní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 kontingenční tabulky s očekávanými četnostmi méně než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 x 2 kontingenční tabul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5800" y="1981080"/>
          <a:ext cx="7772400" cy="46468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m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m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 řád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ravenc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mraven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 sloupc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Hierarchická analýza četnos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var počet min na li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0 náhodně vybraných lis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4 větví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3 strom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4 různých plochá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0 x 4 x 3 x 4 = 1440 lis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pětné kroužkovací nálezy: popis problé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áme známou kohortu okroužkovaných pták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měnné jso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t úhynu ptáka v daném časovém interva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t zpětného nález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rovnáváme pst úhynu a pst zpětného nálezu v různých kohortá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pětné kroužkovací nálezy: teoretick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pst přežití ptáka od okroužkování do doby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množství ptáků žijících v ča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28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čemž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čet původně okroužkovaných ptáků v ča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cs-CZ" sz="2800" spc="-1" strike="noStrike" baseline="-12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cs-CZ" sz="2800" spc="-1" strike="noStrike" baseline="-14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množství ptáků, kteří zahynou v časovém intervalu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cs-CZ" sz="2800" spc="-1" strike="noStrike" baseline="-12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cs-CZ" sz="2800" spc="-1" strike="noStrike" baseline="-12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cs-CZ" sz="2800" spc="-1" strike="noStrike" baseline="-14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 pst, že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ták, kt. přežil to doby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28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hyne v průběhu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va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2800" spc="-1" strike="noStrike" baseline="-8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- t</a:t>
            </a:r>
            <a:r>
              <a:rPr b="1" i="1" lang="cs-CZ" sz="28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-8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pětné kroužkovací nálezy: teoretick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cs-CZ" sz="3200" spc="-1" strike="noStrike" baseline="-8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rtvých ptáků</a:t>
            </a:r>
            <a:r>
              <a:rPr b="0" i="1" lang="cs-CZ" sz="3200" spc="-1" strike="noStrike" baseline="-8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čekáváme zpětný nález malého poměru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takže očekávaný počet zpětných nálezů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cs-CZ" sz="3200" spc="-1" strike="noStrike" baseline="-14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el je platný za předpokladů, že pst úmrtí a pst nálezu v každém věkovém intervalu je konstant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y diskrétních 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Četnost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víme, kolikrát jev nastal, ale nevíme, kolikrát jev nenastal: počet ryb v síti, počet dormantních semen v půdním vzorku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měr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víme kolikrát jev nastal i kolikrát nenastal: např. počet uhynulých jedinců hmyzu ve vzorku při testování vlivu insektici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Kategori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např. binární data typu žíví-mrtví, vylíhlí-nevylíhlí, samec-sam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pětné kroužkovací nálezy: teoretick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st úmrtí a zpětného nálezu spojíme do parametru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sti záznamu úmrtí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v roc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 ptáka žijícího na počátku rok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= ex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n(N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+ ln(z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-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 nahrazeno poměrem uhynulých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2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pětné kroužkovací nálezy: řešení modelu </a:t>
            </a:r>
            <a:br>
              <a:rPr sz="4400"/>
            </a:b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44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 = exp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n(N</a:t>
            </a:r>
            <a:r>
              <a:rPr b="1" i="1" lang="cs-CZ" sz="4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i="1" lang="cs-CZ" sz="44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44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 + ln(z</a:t>
            </a:r>
            <a:r>
              <a:rPr b="1" i="1" lang="cs-CZ" sz="44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že známe původní počet kroužkovaných ptáků v každé kohortě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n(N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užijeme jej jako off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že používáme logaritmickou spojovací funkci, dostáváme graf logaritmu zpětných odchytů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2800" spc="-1" strike="noStrike" baseline="-8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i času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28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ůsečík lineárního modelu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n(z</a:t>
            </a:r>
            <a:r>
              <a:rPr b="1" i="1" lang="cs-CZ" sz="28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udává logaritmus zpětných odchytů a sklon modelu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i="1" lang="cs-CZ" sz="28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přežití na jednotku času v průběhu interval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2800" spc="-1" strike="noStrike" baseline="-8000">
                <a:solidFill>
                  <a:srgbClr val="000000"/>
                </a:solidFill>
                <a:latin typeface="Times New Roman"/>
              </a:rPr>
              <a:t>j-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zpětných odchytů: puštík obecn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981080"/>
          <a:ext cx="7772400" cy="46530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bový 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řezový 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íšený 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bezpečí kontingenčních tabul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8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spojujte data přes důležité vysvětlující proměnné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1782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udie indukované obrany rost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1676520"/>
          <a:ext cx="8007480" cy="5302080"/>
        </p:xfrm>
        <a:graphic>
          <a:graphicData uri="http://schemas.openxmlformats.org/drawingml/2006/table">
            <a:tbl>
              <a:tblPr/>
              <a:tblGrid>
                <a:gridCol w="1320840"/>
                <a:gridCol w="1901880"/>
                <a:gridCol w="993960"/>
                <a:gridCol w="895320"/>
                <a:gridCol w="1295280"/>
                <a:gridCol w="16002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š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ž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kem list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měr listů s požer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m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tom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přítom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tom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přítom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ata spojená přes str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981080"/>
          <a:ext cx="7772400" cy="455616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š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ž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ů celk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měr listů s požer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by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ontingenční tabulka z kontinuálních 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udie kompetice mezi dvěma parazitoidy. Zdá se, že jeden druh je specialistou na nízkou a druhý na vysokou populační hustotu koři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ata: % parazitace kořisti, populační hustota kořisti, přítomnost parazitoida druhu 1 (je=1/není=0) a druhu 2 (je=1/není=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omplexní kontingenční tabul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právce rezervace počítal mrtvá těla chráněných živočichů a dělil je pod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hlaví (S; samec=1, 2=sam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noviště (H; les=1, keře=2, otevřená plocha=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on svahu (A; sever a jih=1, východ a západ=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zóna (W; 1=jaro, 2=léto, 3=podzim, 4=z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ěk (J; 1=mládě, 2=dospěl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omplexní kontingenční tabul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abulka má 2 x 3 x 2 x 4 x 2 = 96 buně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de o četnosti s malými frekvencemi, takže jsou vhodná na analýzu s Poissonovým rozložením chy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jímají nás významné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nterakc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ezi zaznamenávanými fak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verdisp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zložení chyb nemuselo být Poissonovo, ale negativně binomick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ze řešit aproxim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proximace nafoukne standardní chyby statist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76520" y="2971800"/>
                <a:ext cx="22096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676520" y="4572000"/>
                <a:ext cx="1523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λ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č je standardní statistika nevhodná na data o četnost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ineární metody mohou fitovat jako očekávané hodnoty negativní čet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ozptyl dat není konstant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řešení overdisp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etnosti slimáků pod dlaždic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gativně binomické rozlož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ouparametrické rozložení s poměrem rozptylu ku průměru větším než je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t získání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dinců ze vzorku s průměrem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parametrem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kde malé hodnoty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namenají vysoký stupeň agregace) 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143000" y="4114800"/>
                <a:ext cx="16765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143000" y="5257800"/>
                <a:ext cx="3124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právný postup s daty o četnost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issonovo rozložení chy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ogaritmická spojovací funk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ozdíl mezi Poissonovo a binomickým rozložením chy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issonovo rozložení používáme k popisu četnostních dat, když víme, kolikrát jev nastal, ale nevíme, kolikrát nena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omické rozložení používáme k popisu četnostních dat, když víme, kolikrát jev nastal ze známého počtu případ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avděpodobnost jevu podle Poissonova rozlož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noparametrická distribuce, kde se průměr rovná rozpty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avděpodobnost, že daný jev nenastan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e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kde </a:t>
            </a:r>
            <a:r>
              <a:rPr b="0" i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 průměr výskytu je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avděpodobnost, že daný jev nastan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-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rát, j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x-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/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vláštnosti Poissonova rozložení proti rozložení normální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že četnosti jsou celá čísla, také reziduály (y-%fv) nabývají jen diskrétních hod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že četnosti nemohou nabývat negativních hodnot, musí být kladné i fitované hodnoty. Proto se používá logaritmická spojovací funkce. Když jsou fitované hodnoty převedeny zpět na četnosti, je minimální hodnota exp(-    )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 rot="10800000">
                <a:off x="5029200" y="4724280"/>
                <a:ext cx="3808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vláštnosti Poissonova rozložení proti rozložení normální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 odhadu parametrů se místo metody nejmenších čtverců používá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etoda maximální věrohodnost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je to metoda, která pro daný soubor dat fituje parametry, které jsou pro tento soubor dat nejpravděpodobnějš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7:13:37Z</dcterms:created>
  <dc:creator>Vojtěch Jarošík</dc:creator>
  <dc:description/>
  <dc:language>en-US</dc:language>
  <cp:lastModifiedBy>Vojtěch Jarošík</cp:lastModifiedBy>
  <dcterms:modified xsi:type="dcterms:W3CDTF">2002-11-06T11:23:29Z</dcterms:modified>
  <cp:revision>15</cp:revision>
  <dc:subject/>
  <dc:title>Poissonovo rozložení chyb</dc:title>
</cp:coreProperties>
</file>