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6EC-C33C-406C-8D82-A22BDE3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3B8-950F-4CCC-A1BA-B0CA17B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264-B4F4-46EF-9966-7CA5E777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A8C-FD1F-4033-9436-48844AC7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CA5-C260-482D-B976-BDDA2B1C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2AF-515D-4E34-B722-7DFB6B08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4A2-FE37-400B-8834-8BCBE4FF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718-8676-45AD-9A10-968C85F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81B-24D2-4B50-AC15-4EB26FDB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F97-6488-4832-B6BB-F56BE56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1B6-E81C-46A0-BAEA-B8D47E3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250-C2A4-4165-B1D0-E8E5584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8BD0-A80E-4939-BE84-1B0E1C6D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ární vysvětlované proměnn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alýza multikategoriálních dat:</a:t>
            </a:r>
            <a:br>
              <a:rPr sz="44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říklad s výskytem virového onemocně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symptomy x 2 pohlaví x 4 věkové skupiny = matice dat s 24 řád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upec s četnostmi (counts) obsahující počet organismů s odpovídajícím symptomem (yvar s Poissonovým rozložením chy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upec pro faktor symptom SYMPT (1=žádný, 2=střední, 3=výrazn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upec pro faktor pohlaví SEX (1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upec pro faktor věk AGE (1, 2, 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alýza multikategoriálních dat:</a:t>
            </a:r>
            <a:br>
              <a:rPr sz="44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říklad s výskytem virového onemocně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rávný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ulový mode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 SYMP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o yvar a AGE a SEX jako vysvětlující faktory b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 fit sympt + age*sex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vý-živ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zitovaný-neparazitova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kční-neinfekč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c-sam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ázdná či obsazená 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ium mort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přežil-nepřež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světlující proměnné např. pohlaví, věk, váha, stanoviště ap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terý faktor (pokud vůbec některý) je zodpovědný za mortalit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inární data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obsahuje nuly (mrtvý) a jedničky (živ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 s těmito kategoriálními daty zachází způsobem, ve kterém 0 a 1 pocházejí ze specifické formy binomického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ak binární data v GLIMu analyzov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te vysvětlovanou proměnnou jako vektor nul a jedni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te vekt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ný jedniček představující binomický jmenova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hlaste rozložení chyb na binomické a vekt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binomický jmenova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te vhodnou spojovací funkci (implicitně logitová, vhodná je též log-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tujte model jako obv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jednodušujte maximální model na MAM a posuzujte významnost změn srovnáváním s hodnotami chi-kvadrá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ární data nelze kontrolovat na over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 versus reproduk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de o analýzu ceny reprodukce vytrvalé byliny (trade-off mezi reprodukcí a mortalito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přežila-nepřežila do příští reprodukční sezóny (d= 1 nebo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světlující proměnné počet květenství (cap) a objem kořenového systému 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kategoriální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ří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800" y="3809880"/>
            <a:ext cx="78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parazitováno - lehká parazitace – silná parazit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ný turgor – částečné vadnutí – zva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 příznaků – nejasné – jasné sympt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mi nezřetelná – slabá – střední – silná – velmi silná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alýza multikategoriálních dat:</a:t>
            </a:r>
            <a:br>
              <a:rPr sz="44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kontingenční tabulka s třemi složk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tegoriální proměnná představující odpově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lasifikační vektory představující vysvětlující proměn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ktor četností (counts) představující počet pozorování pro každou buňku tabul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alýza multikategoriálních dat:</a:t>
            </a:r>
            <a:br>
              <a:rPr sz="44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říklad s výskytem virového onemocně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pověď se třemi úrovněmi symptomu choroby: žádný – střední – výraz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ční vek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k (4 úrovn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hlaví (2 úrovně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 věk a pohlaví ovlivňují symptomy chorob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20:11:33Z</dcterms:created>
  <dc:creator>Vojtěch Jarošík</dc:creator>
  <dc:description/>
  <dc:language>en-US</dc:language>
  <cp:lastModifiedBy>Vojtěch Jarošík</cp:lastModifiedBy>
  <dcterms:modified xsi:type="dcterms:W3CDTF">2002-11-26T21:12:44Z</dcterms:modified>
  <cp:revision>9</cp:revision>
  <dc:subject/>
  <dc:title>Binární vysvětlované proměnné</dc:title>
</cp:coreProperties>
</file>