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DAB-B368-4DD8-BD56-1979531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4DA-588A-4257-A5F1-8E9E69C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D8A-20DD-4DAE-8C4C-CEA04DDA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A9D-0889-4062-B11F-8D39DCCF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771-C303-4CEC-8701-8A519889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877-671F-4F81-9698-4C738C5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863-2FDB-4747-9D67-FF5ABC3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7DC-BE17-484A-8062-EB7DECF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2C7-BC8B-425C-8F40-851D39C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3B9-2C64-4860-AA35-3444101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3D4-A44A-468B-9B61-5835A38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7EA-C5AF-43D0-B884-C8C0D3D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400-92F2-4670-8552-B3C274C9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. Vojtěch Jaroš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iničná 7, 2.p., m.č. 20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ttp://www.natur.cuni.cz/~jarosik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ýsledky analý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uje silný pozitivní vztah mezi výnosem a minerální výživ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nosy genotypů se průkazně li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n vztahu se pro genotypy průkazně neli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uální variance se chová dobře a chyby mají normální rozlož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ry mode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8480" y="1870200"/>
            <a:ext cx="78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ální adekvátní model pro genotyp ze suchého stanovi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0,0574 + 0,8843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ální adekvátní model pro genotyp z vlhkého stanovišt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0,0574 + 0,8743x + 3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1080" y="4842000"/>
            <a:ext cx="67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vysvětluje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247.27-47.025)/247,27 = 8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si máme pamatov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.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pokládané znal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ární reg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ování hypotéz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, F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áklady práce na PC, včetně práce s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istorie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cCullagh a Nelder (1989): software pro profesionální statis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 GLIM neum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ýzu časových ř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ýzu komplexních experimen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rozměrné statist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LIM je obecný a flexibil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ákladní cíle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ktivní software pro předběžnou grafickou a tabelární analýzu 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jení s metodou maximální věrohodnosti odhadu parametrů lineárních modelů a jejich standardních chy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stroje pro kontrolu adekvátnosti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ři součásti GLI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stroj statistického model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stroj explorace d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ovací jazyk a kalkulá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GLIM pracuj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kologický pří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nojení a vý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1066680"/>
          <a:ext cx="7772400" cy="55864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otyp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otyp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ztah mezi růstem a minerální výživ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lineární či nelineár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hodnoty parametrů vztah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se chová vari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ší se genotyp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čel analý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se používá G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nejdůležitější přík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 vypadá výsledek progr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07:52:07Z</dcterms:created>
  <dc:creator>student</dc:creator>
  <dc:description/>
  <dc:language>en-US</dc:language>
  <cp:lastModifiedBy>Vojtěch Jarošík</cp:lastModifiedBy>
  <dcterms:modified xsi:type="dcterms:W3CDTF">2003-10-08T17:05:00Z</dcterms:modified>
  <cp:revision>12</cp:revision>
  <dc:subject/>
  <dc:title>Doc. Vojtěch Jarošík</dc:title>
</cp:coreProperties>
</file>