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C14-0E22-40F7-B979-2D725FA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2C8-A637-4F33-AFDC-98E8DD9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395-A11E-459E-BE9D-A0097830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96C0-5481-45D1-9B84-505D7F2A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44D-41B4-45C6-86B2-27128DE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729-6A82-47A0-95FF-8B8B781C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81F-08AF-4CD8-8D24-40ECB4C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A22-BD3F-42B0-945F-72AC7234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6DF-BF5E-4066-93CF-4FC9D97E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81E-A000-4BB0-9EA8-94D98B2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459-80F7-4E44-AFAF-2696BC8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B9A-D978-4E32-A6A3-3D6726F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479-EA92-4A97-897D-2B087D65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OVA kombinuje prvky regrese a ANO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lečný sklon pro ošetř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1600200"/>
                <a:ext cx="53341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z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78680" y="2327400"/>
            <a:ext cx="6956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mez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(121.06 x 1017.61 + 166.19 x 1358.81)/2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(287.25 x 2376.42)/40 = 384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" y="3124080"/>
            <a:ext cx="793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celke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mez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197.53 - 384.96 = 812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73200" y="3657600"/>
            <a:ext cx="613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SS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+ SS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4.56 + 19.87 = 34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44200" y="4191120"/>
            <a:ext cx="58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 = 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SS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812.57/34.50 = 23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5560" y="4800600"/>
            <a:ext cx="864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SR = b.SSXY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SSXY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SS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uvnit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812.57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34.50 = 19177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OVA pro plodnost a velikost rost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92280" y="2011320"/>
          <a:ext cx="7734240" cy="45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11320"/>
                    <a:ext cx="773424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ůsečíky paralelních regresních sklo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90720" y="2057400"/>
                <a:ext cx="1828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727720" y="217476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.88 - 23.60 x 6.053 = -91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66680" y="2895480"/>
                <a:ext cx="2057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108600" y="293688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7.94 - 23.60 x 8.309 = -127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řední chy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4640" y="179388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ybový rozptyl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56.1/37 = 4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38080" y="2362320"/>
                <a:ext cx="5257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X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2120" y="3809880"/>
                <a:ext cx="70866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SX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řední chyba rozdí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85800" y="2209680"/>
                <a:ext cx="41911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SX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3505320"/>
                <a:ext cx="754380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6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3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8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095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výnos, faktor kombinace živin, kovariát počáteční koncentrace ži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produkce semen v závislosti na predačním tlaku herbivorů, kovariát počáteční velikost rost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loky jako alternativa kovariá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p výpoč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 jako v 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 regrese pro každou úroveň ošetř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ování shody sklonů regrese pro každé ošetř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ování shody průsečíků paralelních regresních pří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8088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00600" y="13716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936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9360" y="51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029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0880" y="1828800"/>
            <a:ext cx="221004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0880" y="1905120"/>
            <a:ext cx="327672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0880" y="2590920"/>
            <a:ext cx="350532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3200" y="148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95840" y="148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95840" y="20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00600" y="2057040"/>
            <a:ext cx="350532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00600" y="1295280"/>
            <a:ext cx="2971800" cy="426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6364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24840" y="1031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36232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59092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6668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8954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04812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3526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8954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04812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81952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28954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666880"/>
            <a:ext cx="228600" cy="152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743200"/>
            <a:ext cx="228600" cy="152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666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4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4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533520" cy="304560"/>
          </a:xfrm>
          <a:custGeom>
            <a:avLst/>
            <a:gdLst>
              <a:gd name="textAreaLeft" fmla="*/ 219960 w 533520"/>
              <a:gd name="textAreaRight" fmla="*/ 313560 w 5335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971800"/>
            <a:ext cx="533520" cy="304920"/>
          </a:xfrm>
          <a:custGeom>
            <a:avLst/>
            <a:gdLst>
              <a:gd name="textAreaLeft" fmla="*/ 219960 w 533520"/>
              <a:gd name="textAreaRight" fmla="*/ 313560 w 5335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971800"/>
            <a:ext cx="533520" cy="304920"/>
          </a:xfrm>
          <a:custGeom>
            <a:avLst/>
            <a:gdLst>
              <a:gd name="textAreaLeft" fmla="*/ 219960 w 533520"/>
              <a:gd name="textAreaRight" fmla="*/ 313560 w 5335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666880"/>
            <a:ext cx="533160" cy="304920"/>
          </a:xfrm>
          <a:custGeom>
            <a:avLst/>
            <a:gdLst>
              <a:gd name="textAreaLeft" fmla="*/ 219600 w 533160"/>
              <a:gd name="textAreaRight" fmla="*/ 313560 w 5331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743200"/>
            <a:ext cx="533520" cy="304920"/>
          </a:xfrm>
          <a:custGeom>
            <a:avLst/>
            <a:gdLst>
              <a:gd name="textAreaLeft" fmla="*/ 219960 w 533520"/>
              <a:gd name="textAreaRight" fmla="*/ 313560 w 5335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581280"/>
            <a:ext cx="533520" cy="304920"/>
          </a:xfrm>
          <a:custGeom>
            <a:avLst/>
            <a:gdLst>
              <a:gd name="textAreaLeft" fmla="*/ 219960 w 533520"/>
              <a:gd name="textAreaRight" fmla="*/ 313560 w 5335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. Specifikace vysvětlujících proměnný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371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200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8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8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200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343400" y="1295280"/>
            <a:ext cx="48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druh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457200" y="3962160"/>
            <a:ext cx="485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druh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419720" y="3962160"/>
            <a:ext cx="485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druh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457200" y="1447560"/>
            <a:ext cx="7902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druhů 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6002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ubrava (úroveň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905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or (úroveň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rčina (úroveň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4960" y="320040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ocha rezervace (kovariá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080" y="58672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ocha rezerv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20040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ocha rezerv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586728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ocha rezerv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48520" y="119556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aktor vegetační ty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90720" y="1905120"/>
            <a:ext cx="10666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990720" y="2209680"/>
            <a:ext cx="1676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90720" y="2590920"/>
            <a:ext cx="28191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990720" y="4190760"/>
            <a:ext cx="1676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90720" y="4419720"/>
            <a:ext cx="220968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90720" y="4648320"/>
            <a:ext cx="28191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1676520"/>
            <a:ext cx="2590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48769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0960" y="388620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ubr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8160" y="4191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5760" y="48769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rč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1400" y="213372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egetační 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dnost (mg) a velikost rost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98720" y="1974960"/>
          <a:ext cx="658476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974960"/>
                    <a:ext cx="658476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y čtverců a souči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7240" y="2013120"/>
          <a:ext cx="7743960" cy="42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2013120"/>
                    <a:ext cx="774396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počty pro jednocestnou 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8320" y="2286000"/>
            <a:ext cx="62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T = 164 928 - (2 376.4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40) = 23 743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920" y="3048120"/>
            <a:ext cx="86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A = (1017.6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358.8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0 - (2 376.4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40 = 2 910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6800" y="38862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E = SST - SSA = 23 743.7 - 2 910.4 = 20 83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počty pro 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7080" y="1828800"/>
            <a:ext cx="73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SXY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6509.5 - (121.06 x 1017.61)/20 = 349.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2760" y="2286000"/>
            <a:ext cx="530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S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747.34 - 121.06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/20 = 14.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87680" y="2819520"/>
            <a:ext cx="593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SXY/SSX = 349.91/14.56 = 24.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880" y="3648240"/>
            <a:ext cx="756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SXY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11753.6 - (166.19 x 1358.81)/20 = 462.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2880" y="4181400"/>
            <a:ext cx="548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S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1400.83 - 166.19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/20 = 19.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47800" y="4714920"/>
            <a:ext cx="593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SXY/SSX = 462.57/19.87 = 23.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6:55:57Z</dcterms:created>
  <dc:creator>Vojtěch Jarošík</dc:creator>
  <dc:description/>
  <dc:language>en-US</dc:language>
  <cp:lastModifiedBy>Vojtěch Jarošík</cp:lastModifiedBy>
  <dcterms:modified xsi:type="dcterms:W3CDTF">2002-12-15T19:33:27Z</dcterms:modified>
  <cp:revision>4</cp:revision>
  <dc:subject/>
  <dc:title>ANCOVA</dc:title>
</cp:coreProperties>
</file>