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B5E0-E802-4A30-99CC-8931B8585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B3C4-1E63-40EF-91B2-6ABB62A5F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79FC-CFDD-4E38-8249-334EFC5AD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366C-3B7F-4FFC-A669-90C390B4D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FC3C-C1EC-4B29-8A87-4D23F1BA5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0A38-E779-44BE-ABBF-542497697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ECF0-2557-4B8A-823C-1CA5B8A50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C033-96BD-48DE-909B-EC619C450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340C-3551-4EF1-971A-0931F17B1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C4E6-107D-4A0E-AAE7-7C649F7DF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B09C-2B00-4CBC-B7BA-56903C06D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0D20-D730-4358-A40E-7EDE35DC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5BCA3-8B4A-440C-A1FB-10EA12835A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nomické rozložení chy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měrná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říkazy GLIMu pro poměrná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$erro b n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762120" y="2590920"/>
                <a:ext cx="1014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3657600" y="2057400"/>
                <a:ext cx="2438280" cy="17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it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xikologický t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hmyz byl postříkán různými koncentracemi insekticidu a po 24h byl zaznamenáván počet mrtvých jedin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a počátku pokusu byla snaha dát do každé Petriho misky 40 jedinců, ale někde jich nakonec bylo mén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</a:t>
            </a:r>
            <a:r>
              <a:rPr b="0" lang="cs-CZ" sz="4400" spc="-1" strike="noStrike" baseline="-25000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836640" y="1676520"/>
                <a:ext cx="422424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69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18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ávk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838080" y="2666880"/>
                <a:ext cx="2895840" cy="262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0,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p</m:t>
                                </m:r>
                              </m:num>
                              <m:den>
                                <m:r>
                                  <m:t xml:space="preserve">q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dávk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69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8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ování hypotéz s binomickým rozložením chy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ejně jako při Poissonově rozložení chyb, výsledky jsou jen přibližn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ýsledky jsou přesnější pro větší velikost vzorku (n &gt; 3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Overdispersion při binomickém rozložení chy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ejně jako při Poissonově rozložení chyb by residual scale deviance měla být přibližně rovna residual d.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$ca %s=%x2/%df 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$scale %s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ro nestejmé binomické jmenovatele je lepší Williamsova korek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Hustotně závislý parazitismus: ANCOVA s binomickým rozložením chy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měr parazitovaných housenek byl zjišťován pitvou šesti nezávislých náhodných vzorků ze tří lokal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časně byly dělány odhady populační hustoty housenek pomocí lapačů jejich trus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uh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ontrolujte, zda binomický jmenovatel neobsahuje nuly a zda četnosti nejsou větší než binomický jmenovat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ontrolujte overdispersion a ošetře jej scale parametrem nebo Williamsovou korekc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vědomte si, že při testování chi-kvadrátem nejsou testy pro malé vzorky spolehliv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fitované hodnoty jsou četnosti, stejně jako závisle proměnn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ineární prediktor je v logitech a musí být konvertován na poměry p=1/(1+1/exp(hodnota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 ošetření overdispersion testujeme F-.testem, nikoli chi-kvadrá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y poměrných d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talita v procente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měr napadených organismů chorobo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xikologické tes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orční odpovědi na různé typy ošetření při experimente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ozdíl mezi Poissonovým a binomickým rozložením chy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íme, jak často spadají experimentální objekty do určité kategorie (např. živé, napadené) a jak často spadají do jiné kategorie (např. mrtvé, nenapadené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 případě Poissonova rozložení jsme věděli, jak často událost nastala, ale nevěděli jsme, jak často nenasta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ování vyžaduje specifikaci binomického jmenovate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$error b n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nepoužívat procenta jako závisle proměnno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centa nabývají hodnot 0-100, zatímco předpokládané normální rozložení chyb hodnoty od plus do mínus nekonečna; to je vážný problém zejména pro méně než 20% a více než 8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itovaná data mohou být záporná nebo více než 10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ozptyl nemá normální rozlože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ní konstant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trácíme informaci o velikosti vzor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GLIM váží poměrná data velikostí vzorku a linearizuje parame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yvar je např.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očet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hynulých živočich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lkový počet hodnocených živočichů j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binomický jmenovat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GLIM používá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áženou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regresi s využitím binomického jmenovate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GLIM používá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ogitovou spojovací funkc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terá  linearizuje odhadnuté parame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lasické transformace poměrných d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rcs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 normalizuje rozložení chy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bi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 linearizuje parametry v toxikologických teste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bě transformace jsou správné a použitelné v GLI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ogi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vá transformace je však jednodušší a tudíž snáze interpretovatel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Times New Roman"/>
              </a:rPr>
              <a:t>Logitová transformac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2438280" y="1828800"/>
                <a:ext cx="4343400" cy="275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p</m:t>
                                </m:r>
                              </m:num>
                              <m:den>
                                <m:r>
                                  <m:t xml:space="preserve">q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x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q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-p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zptyl binomického rozlože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447920" y="19051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47920" y="419112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68480" y="190512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4028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62320" y="41148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41148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648320" y="41148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91320" y="41148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781680" y="41148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47920" y="2133720"/>
            <a:ext cx="5333760" cy="2057400"/>
          </a:xfrm>
          <a:custGeom>
            <a:avLst/>
            <a:gdLst/>
            <a:ahLst/>
            <a:rect l="l" t="t" r="r" b="b"/>
            <a:pathLst>
              <a:path w="3360" h="1296">
                <a:moveTo>
                  <a:pt x="0" y="1296"/>
                </a:moveTo>
                <a:cubicBezTo>
                  <a:pt x="512" y="648"/>
                  <a:pt x="1024" y="0"/>
                  <a:pt x="1584" y="0"/>
                </a:cubicBezTo>
                <a:cubicBezTo>
                  <a:pt x="2144" y="0"/>
                  <a:pt x="2752" y="648"/>
                  <a:pt x="3360" y="1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59200" y="41148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78520" y="41148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5200" y="41148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64520" y="41148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554880" y="411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182880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521080" y="5410080"/>
            <a:ext cx="388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Binomické rozložení: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= np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issonovo rozložení: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i="1" lang="cs-CZ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= 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3T13:08:02Z</dcterms:created>
  <dc:creator> Vojtěch Jarošík </dc:creator>
  <dc:description/>
  <dc:language>en-US</dc:language>
  <cp:lastModifiedBy>Vojtěch Jarošík</cp:lastModifiedBy>
  <dcterms:modified xsi:type="dcterms:W3CDTF">2002-12-01T14:05:39Z</dcterms:modified>
  <cp:revision>16</cp:revision>
  <dc:subject/>
  <dc:title>Binomické rozložení chyb</dc:title>
</cp:coreProperties>
</file>