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13AB-4BA1-41F7-A00C-8BC0E0D2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93AE-3530-4430-BE55-12CC82B4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61CB-005E-4CCB-BCC8-597D07E1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443F-0A29-4A94-9740-769275A9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E0D4-282F-44A6-B5E5-B98F790B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A788-71A3-4569-AF16-EA85599C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B30C-41C8-4D11-9BFE-0AED3D8F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F681-E378-47E1-98BF-F2BD38A5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9733-AC20-4AFF-AAAF-EF0BAB8E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F02E-2FA8-4D43-93D9-54EE9BBF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2899-97DC-4E5D-A9C7-2113821F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7186-65BD-433C-B408-4117E671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FA85-CA2B-4BC1-89D0-640936E7F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6765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54100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4100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5029200" y="17524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2440" y="1843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20800" y="5334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1" idx="0"/>
          </p:cNvCxnSpPr>
          <p:nvPr/>
        </p:nvCxnSpPr>
        <p:spPr>
          <a:xfrm flipV="1">
            <a:off x="838080" y="2056680"/>
            <a:ext cx="3124080" cy="3353040"/>
          </a:xfrm>
          <a:prstGeom prst="curvedConnector3">
            <a:avLst>
              <a:gd name="adj1" fmla="val 251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4" idx="0"/>
          </p:cNvCxnSpPr>
          <p:nvPr/>
        </p:nvCxnSpPr>
        <p:spPr>
          <a:xfrm flipV="1">
            <a:off x="5029200" y="2209320"/>
            <a:ext cx="2895120" cy="3200400"/>
          </a:xfrm>
          <a:prstGeom prst="curvedConnector3">
            <a:avLst>
              <a:gd name="adj1" fmla="val 251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" name=""/>
          <p:cNvSpPr/>
          <p:nvPr/>
        </p:nvSpPr>
        <p:spPr>
          <a:xfrm>
            <a:off x="1523880" y="6094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= 1 + x -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4000" y="685800"/>
            <a:ext cx="155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y = 3 + 0,1 e</a:t>
            </a:r>
            <a:r>
              <a:rPr b="0" lang="cs-CZ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80160" y="56800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68400" y="552780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nenciální fun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pojovací funkce v GLI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62120" y="1371600"/>
          <a:ext cx="7837200" cy="5170320"/>
        </p:xfrm>
        <a:graphic>
          <a:graphicData uri="http://schemas.openxmlformats.org/drawingml/2006/table">
            <a:tbl>
              <a:tblPr/>
              <a:tblGrid>
                <a:gridCol w="1290600"/>
                <a:gridCol w="266040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jovací funk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zore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žit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e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 =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rese, ANOVA s normálním rozložení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 = log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etnosti s Poissonovo rozložení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 = log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-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měry s binomickým rozložení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ipro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 = 1/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vislá data s gamma rozložení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etnosti v biologických testech (bioassay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-l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měrná data, ředě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há odmocn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et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on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čís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cninové funk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ánonické spojovací funk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85800" y="1981080"/>
          <a:ext cx="7772400" cy="42372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y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jovací funk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e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om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ipro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kologické příkla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09480" y="1143000"/>
          <a:ext cx="7772400" cy="4795920"/>
        </p:xfrm>
        <a:graphic>
          <a:graphicData uri="http://schemas.openxmlformats.org/drawingml/2006/table">
            <a:tbl>
              <a:tblPr/>
              <a:tblGrid>
                <a:gridCol w="1600200"/>
                <a:gridCol w="1508400"/>
                <a:gridCol w="1555560"/>
                <a:gridCol w="1554120"/>
                <a:gridCol w="1554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 analýz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visle proměnn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větlující proměnn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jovací funk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zložení chy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re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visl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visl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e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O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visl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k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e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CO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visl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vislá a fak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tingenční tabul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et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k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visl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om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vislá (dávk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om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vi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ba doži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visl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iprok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onencial, Weib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aximální věrohodnost (maximal likelihoo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jlepší model je takový model, který vede k minimální reziduální odchylce (minimal residual deviance) v minimálním adekvátním modelu (=modelu, kde jsou všechny parametry průkazné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16765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54100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54100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029200" y="17524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2440" y="1843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6760" y="5181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/>
          <p:nvPr/>
        </p:nvCxnSpPr>
        <p:spPr>
          <a:xfrm flipH="1" flipV="1" rot="5400000">
            <a:off x="609120" y="2133000"/>
            <a:ext cx="3505680" cy="3048840"/>
          </a:xfrm>
          <a:prstGeom prst="curvedConnector5">
            <a:avLst>
              <a:gd name="adj1" fmla="val 99363"/>
              <a:gd name="adj2" fmla="val 50000"/>
              <a:gd name="adj3" fmla="val 9936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6" idx="0"/>
          </p:cNvCxnSpPr>
          <p:nvPr/>
        </p:nvCxnSpPr>
        <p:spPr>
          <a:xfrm flipH="1" flipV="1" rot="5400000">
            <a:off x="5333760" y="2971440"/>
            <a:ext cx="2134080" cy="2743920"/>
          </a:xfrm>
          <a:prstGeom prst="curvedConnector5">
            <a:avLst>
              <a:gd name="adj1" fmla="val 158478"/>
              <a:gd name="adj2" fmla="val 33433"/>
              <a:gd name="adj3" fmla="val 15847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1" name=""/>
          <p:cNvSpPr/>
          <p:nvPr/>
        </p:nvSpPr>
        <p:spPr>
          <a:xfrm>
            <a:off x="1520640" y="114300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y = x /(b + ax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4040" y="121932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/y = a + bx + c/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828800"/>
            <a:ext cx="3429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83480" y="27000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zní poly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50840" y="5527800"/>
            <a:ext cx="32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kční odpověď typu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5562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řivka tvaru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M je model s lineárními para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1480" y="1905120"/>
            <a:ext cx="463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y = a + 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y = a +bx + cx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a + bx +cz (z = x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y = a + be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a + bz (z = exp(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4200" y="3276720"/>
            <a:ext cx="654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y = exp(a + b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n y = a + bx  (log spojovací funkc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y = (ax)/(1 + b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/y = a + b(1/x) (z=1/x, reciproká spojovací funk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684720" y="5257800"/>
            <a:ext cx="20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y = a + b/(c +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y = a(1 – be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-c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i důležité vlastnosti G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hybová struk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ineární predik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ojovací funkce (link fun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ktura chy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ikm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piča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hraničené (procen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ní očekávané hodnoty tam, kde reálné hodnoty jsou jen kladné (četnos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Řešení, pokud nemáme G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ransformace y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parametrická statis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IM umožňuje specifikova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issonovo rozložení chyb (četnos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omické (procen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amma (konstantní koeficient varia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xponenciální a Weibullovo (survival analys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ineární predik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čítá %fv pro lineárně transformovanou závisle proměnn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rací %fv po zpětné transformaci, např. pro log spojovací funkci anti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ojovací funk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pojuje lineární prediktor se závisle proměnn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íklady: četnosti musí být pozitivní, poměry (procenta/100) musí být mezi nulou a jedn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ojovací funkce pro četnosti bude log, pro poměry logit (p/(1-p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20:21:41Z</dcterms:created>
  <dc:creator>Vojtěch Jarošík</dc:creator>
  <dc:description/>
  <dc:language>en-US</dc:language>
  <cp:lastModifiedBy>Vojtěch Jarošík</cp:lastModifiedBy>
  <dcterms:modified xsi:type="dcterms:W3CDTF">2004-02-23T13:52:29Z</dcterms:modified>
  <cp:revision>7</cp:revision>
  <dc:subject/>
  <dc:title>Prezentace aplikace PowerPoint</dc:title>
</cp:coreProperties>
</file>