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361-9902-4F0F-B59E-C18505C1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307-637F-44AB-93B0-06C3A1F8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739-5D80-4680-92B4-7CA026EB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438-B15B-4652-B692-5FF4770F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08F-5744-47B2-A8A7-7B4DA148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FAE-2FFA-4B42-921A-AE89ECAF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B3B-3848-49F6-9E25-D0B28774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327-FC3A-408E-A074-70CCFD76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F1E-82CC-46A4-A8C4-4F693412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177-1A60-4621-B55A-C6D2B326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353-2A66-4D5F-8E4C-06A300CC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3B7-C10C-4BDF-988F-FA212E3B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0239-3C52-4681-BE34-7F9B59BC7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ýza přeží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rviv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ciální distribuce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ěk smrti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(t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pst úmrtí v malém časovém úseku mezi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mě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mírajících v těchto časových úsecích klesá exponenciál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 přežívajících zemře v každém časovém úseku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ciální distribuce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(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žívání ukazuje poměr jedinců z původní kohorty žijících v čas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(t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á průsečík rovný 1 v čas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0 a ukazuje pst přežívání delší než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(t) = e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-h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ciální distribuce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(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iziko vyjadřuje okamžitou rychlost úmrtí (instantaneous death 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to pomě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(t)/S(t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je rov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(t) =1/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uto hodnotu parametru GLIM odhadu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iziko se tedy s věkem nemění a je rovno převrácené hodnotě průměrného věku úmrtí; např. pro průměrnou dobu života 3,8 týdne bude riziko úmrtí 1/3,8 = 0,26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nalýza přežívání v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stantní riziko, žádný cens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stantní riziko s censorin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ěkově specifické riziko a cens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onstantní riziko a žádný censoring: Exponenciální distrib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error g(amma)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scale 1$ (exponenciální rozložení je jednoparametrické a tudíž nechceme odhad scale parameter; gamma rozložení by jinak scale parameter odhadova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mplicitní spojovací fukce je reciproká, která odhaduje přímo očekávané rizik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onstantní riziko s censorin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error p(ois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link l(og)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$yvar indikátor censoringu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ěkově specifické riziko a cens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eibullovo rozložení chyb 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poku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iziko úmrtí v čase stoupá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poku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iziko úmrtí v čase kles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onstantní riziko a žádný censoring: Exponenciální distrib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menáčky byly sledovány od klíčení do smrti; doba života yvar byla měřena v týdnech pro dvě koho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na kohorta klíčila v září a druhá v říj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ko kovariátu máme velikost díry, do které byl semenáček zasaz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ens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užíváme ho tehdy, jestliže neznáme dobu smrti všech jedinců: někteří jedinci přežili dobu exp, ztratili se, spadla jim značka ap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Řešíme pomocí indikátoru censoringu w: vektor, kt. rozlišuje jedince, kt. během exp skutečně zahynuli (w=1), a jedince, kt. jsme sice viděli živé, ale nevíme, kdy zahynuli či zahynou (w=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dikátor censoringu: přík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4  7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8  12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 1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1  1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sou skutečné doby smrti s výjimkou dvou případů, (8 a 15), kdy byli jedinci naposled viděni živí, ale nikdy zaznamenáni pozdě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ěření doby do smr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oposud jsme se zabývali j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měrem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inců, kteří byli mrtví v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aném č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yní bude každý jedinec sledován až do okamžiku smr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inci, kteří přežijí do konce exp a zemřou v neznámou dobu v budoucnosti, budou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ensore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oba smrti bude y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onstantní riziko s censorin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log λ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log 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ůměr Poissonova rozložení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funkce rizik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rror Poi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ojovací funkce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onstantní riziko s censoringem: přík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ledujeme dvě skupiny 21 larev stejného věku a velik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vní skupina byla krmena BT listy a druhá stejnými, ale netransgenními lis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ata se skládají z doby do smrti larvy ve dnech (jestliž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) nebo z doby, kdy byla larva viděna naposledy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=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ěkově specifické riziko a censoring: Weibullovo rozlož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905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4419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>
            <a:off x="990360" y="1981080"/>
            <a:ext cx="6020280" cy="2439000"/>
          </a:xfrm>
          <a:prstGeom prst="curvedConnector5">
            <a:avLst>
              <a:gd name="adj1" fmla="val 12970"/>
              <a:gd name="adj2" fmla="val 50000"/>
              <a:gd name="adj3" fmla="val 12970"/>
            </a:avLst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22" name=""/>
          <p:cNvSpPr/>
          <p:nvPr/>
        </p:nvSpPr>
        <p:spPr>
          <a:xfrm>
            <a:off x="990720" y="1739880"/>
            <a:ext cx="5715000" cy="2679840"/>
          </a:xfrm>
          <a:custGeom>
            <a:avLst/>
            <a:gdLst/>
            <a:ahLst/>
            <a:rect l="l" t="t" r="r" b="b"/>
            <a:pathLst>
              <a:path w="3600" h="1688">
                <a:moveTo>
                  <a:pt x="0" y="1688"/>
                </a:moveTo>
                <a:cubicBezTo>
                  <a:pt x="924" y="900"/>
                  <a:pt x="1848" y="112"/>
                  <a:pt x="2448" y="56"/>
                </a:cubicBezTo>
                <a:cubicBezTo>
                  <a:pt x="3048" y="0"/>
                  <a:pt x="3368" y="1104"/>
                  <a:pt x="3600" y="135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854360"/>
            <a:ext cx="5790960" cy="2565360"/>
          </a:xfrm>
          <a:custGeom>
            <a:avLst/>
            <a:gdLst/>
            <a:ahLst/>
            <a:rect l="l" t="t" r="r" b="b"/>
            <a:pathLst>
              <a:path w="3648" h="1616">
                <a:moveTo>
                  <a:pt x="0" y="1616"/>
                </a:moveTo>
                <a:cubicBezTo>
                  <a:pt x="152" y="888"/>
                  <a:pt x="304" y="160"/>
                  <a:pt x="912" y="80"/>
                </a:cubicBezTo>
                <a:cubicBezTo>
                  <a:pt x="1520" y="0"/>
                  <a:pt x="2584" y="568"/>
                  <a:pt x="3648" y="1136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560" y="19954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18160" y="4129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6920" y="4648320"/>
            <a:ext cx="17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t) = věk smr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1055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čkovaně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= 1, přerušovaně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= 2, plná čár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Weibullovo rozlož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vouparametrický model, kt. má exponenciální rozložení jako speciální pří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možňuje modelovat situace, ve kterých riziko úmrtí zůstává konstatní (shape parameter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distrubuce exponenciální), klesá s věkem (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a roste s věkem (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Weibullovo rozložení: modelování v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užíváme knihovní makro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eib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ituje zároveň shape paramete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 lineární prediktor okamžité rychlosti úmrtí (riziko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(t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jprve fituje lineární prediktor pro exponenciální distribuci přežívání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) a potom iterační metodou maximální věrohodnosti odha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Weibullovo roz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ud se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ibullova rozložení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cky průkazně neliší o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, fitujeme exp roz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Weibullovo rozložení: modelování v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cro má tři argumen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 = doba do smr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 = censoring (1 = doba do smrti, 0 = doba neznámá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%s: 1 = fituj Weibullovo rozložení, 2 = fituj pouze exponenciální rozlož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 jeho použitím se definuje macro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ve kterém se model specifiku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Weibullovo rozložení: přík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ohorta 150 švábů rozdělená do tří exp skupin byla sledována 50 d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Úrovně exp ošetření představovaly tři různé dávky BT toxi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ovariátem byla počáteční hmotnost každého jed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yl zaznamenáván den úmrtí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a jedinci, kteří přežili více než 50 dní, byli censored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ýpočet průměrné doby smrti z parametru Weibullova rozlož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počtěte antilog paramet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mocněte antilog n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 tím dostanete rizi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počtěte převrácenou hodnotu rizika; tím dostanete průměrnou dobu do smrti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M umožňuje tato rozložení chyb pro analýzu přeží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ponenciál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og-logistic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ognormál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eibullo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asto j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jlepší zkusit několik typů a vybrat to rozložení, které dává minimální chybový rozpty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876920" y="152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/>
          <p:nvPr/>
        </p:nvCxnSpPr>
        <p:spPr>
          <a:xfrm flipH="1" rot="16200000">
            <a:off x="5143680" y="-38520"/>
            <a:ext cx="2210400" cy="2743920"/>
          </a:xfrm>
          <a:prstGeom prst="curvedConnector5">
            <a:avLst>
              <a:gd name="adj1" fmla="val 928"/>
              <a:gd name="adj2" fmla="val 36622"/>
              <a:gd name="adj3" fmla="val 92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0" name=""/>
          <p:cNvCxnSpPr/>
          <p:nvPr/>
        </p:nvCxnSpPr>
        <p:spPr>
          <a:xfrm>
            <a:off x="4876560" y="228600"/>
            <a:ext cx="2439000" cy="221040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1" name=""/>
          <p:cNvSpPr/>
          <p:nvPr/>
        </p:nvSpPr>
        <p:spPr>
          <a:xfrm>
            <a:off x="4876920" y="914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91440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76560" y="2286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02440" y="22096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Č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549240" y="1098720"/>
            <a:ext cx="16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nto žijící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685800"/>
            <a:ext cx="2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3080" y="2133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9280" y="574560"/>
            <a:ext cx="420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edování přežívání dv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hort jedinců. Procentic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rtalita může být srovná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jednom subjektivně vybr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ém čase a porovnána za pou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ití binomického rozložení chy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0920" y="3089160"/>
            <a:ext cx="850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pším řešením je analyzova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obu do smrt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dnotlivých jedinc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 použitím např. exponenciálního nebo Weibullova rozložení chy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457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0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380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514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2438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2438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0" idx="0"/>
            <a:endCxn id="63" idx="0"/>
          </p:cNvCxnSpPr>
          <p:nvPr/>
        </p:nvCxnSpPr>
        <p:spPr>
          <a:xfrm flipH="1" rot="16200000">
            <a:off x="761760" y="455760"/>
            <a:ext cx="2057760" cy="2057760"/>
          </a:xfrm>
          <a:prstGeom prst="curvedConnector5">
            <a:avLst>
              <a:gd name="adj1" fmla="val 92755"/>
              <a:gd name="adj2" fmla="val 15188"/>
              <a:gd name="adj3" fmla="val 9275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762120" y="457200"/>
            <a:ext cx="198108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7" idx="0"/>
            <a:endCxn id="67" idx="1"/>
          </p:cNvCxnSpPr>
          <p:nvPr/>
        </p:nvCxnSpPr>
        <p:spPr>
          <a:xfrm flipH="1" rot="16200000">
            <a:off x="709200" y="494280"/>
            <a:ext cx="2086920" cy="1981800"/>
          </a:xfrm>
          <a:prstGeom prst="curvedConnector5">
            <a:avLst>
              <a:gd name="adj1" fmla="val -69"/>
              <a:gd name="adj2" fmla="val 47819"/>
              <a:gd name="adj3" fmla="val -69"/>
            </a:avLst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69" name=""/>
          <p:cNvCxnSpPr/>
          <p:nvPr/>
        </p:nvCxnSpPr>
        <p:spPr>
          <a:xfrm>
            <a:off x="3580920" y="380880"/>
            <a:ext cx="2134440" cy="1982160"/>
          </a:xfrm>
          <a:prstGeom prst="curvedConnector5">
            <a:avLst>
              <a:gd name="adj1" fmla="val 13529"/>
              <a:gd name="adj2" fmla="val 49990"/>
              <a:gd name="adj3" fmla="val 1352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6324480" y="121932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53200" y="19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43760" y="11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02800" y="304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520" y="2286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52080" y="11430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4200" y="3808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760" y="290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219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6360" y="10666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133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9680" y="19810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4280" y="24242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943600" y="990720"/>
                <a:ext cx="177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41360" y="2909880"/>
            <a:ext cx="7864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: křivky přežívání. Tečkovaně Typ I, přerušovaně Typ II, plná čára Typ I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: Věk smrti pro Typ II;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oč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umírajících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xponenciáln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lesají s tím, jak se zmenšuje velikost koho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: Funkce rizika (hazard) pro věkově specifickou okamžitou rychlost mortality pro křivku přežívání Typu 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680" y="4890960"/>
            <a:ext cx="883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a do smrti může být vyjádřena třemi navzájem zaměnitelnými způso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řežívání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ěk smrti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amžité riziko úmrtí (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i způsoby vyjádření doby do smr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Křivky přežívá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jsou vynášeny v logaritmické stupnici (ln). Pro Typ II je tato křivka lineární; to znamená, že v každém časovém úseku z počtu jedinců na jeho začátku v jeho průběhu zemře konstantní poměr jedinc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nými slovy, poměr umírajících je hustotně nezávislý a konstantní ve všech časových úsecí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i způsoby vyjádření doby do smr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ěk smr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kazuje poměrnou část kohorty, která zemřela v daném věku. Pro Typ II ukazuje exponenciální pokles: protož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mě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mírajících jedinců je v čase konstantní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č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mírajících exponenciálně klesá, jelikož počty přežívajících v čase exponenciálně klesaj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i způsoby vyjádření doby do smr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ziko (hazard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derivace křivky přežívání, tj. okamžitá rychlost změny log počtu přežívajících za jednotku čas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 Typ II to je sklon přímky – protože riziko úmrtí zůstává s věkem stejné, je přežívání pro Typ II přím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 Typ I riziko smrti s věkem kles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 Typ III ro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ciální distrib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ziko je nezávislé na věku a přežívání; je popsáno Typem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Účelem analýzy je odhadnout průměrný věk smrt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20:21:18Z</dcterms:created>
  <dc:creator>Vojtěch Jarošík</dc:creator>
  <dc:description/>
  <dc:language>en-US</dc:language>
  <cp:lastModifiedBy>Vojtěch Jarošík</cp:lastModifiedBy>
  <dcterms:modified xsi:type="dcterms:W3CDTF">2002-12-18T10:57:29Z</dcterms:modified>
  <cp:revision>21</cp:revision>
  <dc:subject/>
  <dc:title>Analýza přežívání</dc:title>
</cp:coreProperties>
</file>